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gif" ContentType="image/gif"/>
  <Override PartName="/ppt/media/image16.jpeg" ContentType="image/jpeg"/>
  <Override PartName="/ppt/media/image10.wmf" ContentType="image/x-wmf"/>
  <Override PartName="/ppt/media/image2.png" ContentType="image/png"/>
  <Override PartName="/ppt/media/image12.wmf" ContentType="image/x-wmf"/>
  <Override PartName="/ppt/media/image4.png" ContentType="image/png"/>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17.jpeg" ContentType="image/jpeg"/>
  <Override PartName="/ppt/media/image3.png" ContentType="image/png"/>
  <Override PartName="/ppt/media/image19.jpeg" ContentType="image/jpeg"/>
  <Override PartName="/ppt/media/image6.wmf" ContentType="image/x-wmf"/>
  <Override PartName="/ppt/media/image7.wmf" ContentType="image/x-wmf"/>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0B393-3130-48F5-B197-4649D26D7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5BFB-113F-4E6A-B2AF-0B12B005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DBB8B-89FC-49F8-B934-CC73C02B75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91325-3AA9-4A56-92D6-56EC896D7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CF4593-84C2-4507-B496-978D48D09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90543-6E5D-456A-BA1D-635EB765D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85AA3-15D3-4320-849D-95A3E220C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535BF-799F-458D-B89D-35CCCD874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A7552-FBE3-4B8B-9263-A86197703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24672-6915-494B-8E30-176EC81A2F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645F10-9F9A-4F54-9C1A-1AC68D4ABF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FF0CB8-EE95-4C8E-AC00-1942D194D3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72C50-109D-45AE-9A3D-9A00156FA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41C3B7-B331-470B-8019-D607E576A6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7AD202-C672-41F2-BD3A-BA0D17234F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CF2332-710C-4A8B-A19C-37F08F6BB7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638EC6-EEF1-4AFD-A8AA-BA554F3306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7AF4E2-7108-432C-AE37-3D92F65346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C35EBC-910B-4934-AF68-EFB35898E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C0C947-004C-4F6E-B08A-ACF3BA642B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C5FFEF-493C-455A-992D-1343C35C2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9BD684-C410-4948-9176-7C5DE88A3A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D4AA43-5B47-4CE2-AFC7-2C56DFA277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0FC78-6288-4493-9268-AF1FEA5B3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C760A8-C0E6-42AC-BC81-5BF0A77E63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A8B39E-1258-4902-87C4-02BAA05D75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B297D3-CE36-447C-AA70-B059EA5D34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145019-DE46-4DBE-9874-C6B1F79565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B67206-8829-47DD-92CC-853ABD1D19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D73BE5-4384-4A9A-AF98-C142C2287F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AD448D-0DEA-43ED-A934-3F27DA75B9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3DCD12-80FB-4A95-9585-D0039B2184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392EB2-12C5-44B2-983A-DA757A45D7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9D919-0C8B-447C-94B6-155E2359E3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D35EA-8368-44C2-9070-11951558F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43EA37-0BCC-4C04-BF43-883AB77A6B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830788-E804-4213-A331-EA1291AB02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083E35-2735-49E1-BAA1-C67182DF64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1A6EB3-CFFC-4259-880A-13DE0D58C6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CA1E8-7C3B-4A9D-885D-CD47804AAB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C36254-2BAC-4BAB-86A7-6123999B93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BF55F0-FB01-46DA-968B-2C7176E2F1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7A0574-4DF0-4DF4-8063-CEF858B496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ABAEF5-F8AD-441A-A6F7-32E9E86C8D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ABC6C7-7DC5-4635-92AC-CE0BF8F011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B08A7-C98A-438B-BA33-17727CDB7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36D142-0E47-46FF-B3CA-E50E4AE63E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0D7674-5587-4185-9033-4A0DE4FB18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CEFF22-C9EC-4573-91DA-E17635B811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561160-27A6-47FF-8E33-09BADC770D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74E416-0B47-458B-BD0A-BB622D3E31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7D03D6-5B9F-4937-923B-2A006B20BC4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875961-C311-4837-824F-894EA45E7B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771418-819C-4ED9-B607-6B7A6966CE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514D0D-8453-462A-8ED3-55730A5103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797532-9DEE-4FA3-8B6A-64AEBA730A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74AF3-98A8-43A1-BB43-A92DC534D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80EED4-5BFC-41FA-8425-1BFB60B00D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AB42BF-1B10-4E60-A463-9E30D51C1C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426C39-2C05-48F6-ACD5-3FFBD119B5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6C941F-E0F9-444D-95C4-C41BE21BCD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07E562-4F2E-45A4-AEDE-6513ED3BC4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722142-DDD5-459D-90DC-E96891D895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58158A-75BB-4D89-856D-A33C2C86DD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374948-213D-4F48-A50B-555CBECB56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ECCFF1-B368-4376-BCD3-3C17D1FDAB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558834-8100-4CD1-8338-6BBC611A0E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8285A-7A07-4BF5-8814-F96A837E9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E8EF70-78D8-41B7-A5A8-20994AAF78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2A396B-7FCE-4800-BAC1-4FCEFBE294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98C1E7-51A4-406A-8200-C5B436FD28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73F666-900E-451A-89C3-9133C2E2B6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0B34F9-EB17-43D6-8C97-70C900AF5D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B3B6B8-1A87-4715-9FCF-D48F9B81AD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42015F-1757-4AEA-B2C7-E7C3B77C38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EC7554-15A7-4D2B-AD39-8D1FA6F4921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6DA627-30D6-4D54-A6C6-10E39A637E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EC46E29-FE2B-4883-A688-7E7974231B3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3B662-76A5-49C0-B69D-BAFE28E8C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F7495E-5A8A-4E6C-A1F8-4D42E060F0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2A581E-D5C1-4A9D-B1CE-6A76009B96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96D000-306C-45F7-9ED9-FD48523FA0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5614C2-C722-4A2E-8929-1452A2ABBC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A4E562-A890-4DF0-B331-4C47CE9582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DC90EF-D312-47BE-B241-2E63796C33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E50889-E27B-420F-A021-CC308136E8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8B958A-2AEC-44FA-85DA-087D387A77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19E736-71AB-46B1-9AF6-BC201D1CB6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AE8858D-558B-472B-B159-CC3FBF0477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0085C-78B7-4DD0-8C41-91A84C9A4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9C2A00-14C8-4C0A-B9B5-F94317337A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46CD41B-1AF5-48BF-909E-4B4ABC991B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3D443B-0625-4BDA-8C3B-272E01A13D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31865A-BC3A-4238-B2C0-4C7B267932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93A871-C2F3-4A51-91A1-6E05570E22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C3336D-51D9-46AA-894C-6131E416B2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E3735C-3AEC-414D-9C7E-2E6D25C328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A83FA6-DD4B-4D74-98B1-4FC886FAE5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5104E0-3A40-46EB-9F8E-3231A13777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5BE514-4222-421B-8B59-6B0C8B3649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6026-7C86-4140-808A-2590E10DC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8C1379-D562-435E-9FDF-3A07E48183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D8FEDF-D1A7-4DF2-8A09-0A3CCE3965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7F0CFA4-7C8E-47F0-9B8B-24F6B06076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6F57E2F-B20B-43F6-B24D-A85C30C2FCB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6C33BA-AF06-4562-88C4-81EE561753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370F91-A5FC-4D24-B067-35245218C5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556A5C-6B63-4C81-B803-1C67EB51DA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30CF20-BFD5-47E2-976A-DEC5E35371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DDF5B8-9217-42F2-8745-6260A0AFE3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0722A7-4F18-47AA-9154-67A61B7829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5B17-B472-4E74-BDEA-F1467793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F277F-658B-4C8E-BD18-23821F1B0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E56CE7-345E-473F-86A7-64AD939E21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97D827-4A31-4226-9220-BC4F21ACD1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E9641E4-7BC1-4162-BB57-8DDCF67928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7108453-D51D-4781-999A-D82E07E696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35641FE-961B-4645-972B-B7939A95AA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EA5A7C-AD10-437A-9F16-0A5878A730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309ABF-1874-44F7-B99E-3EEA323002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243C46-427F-4BED-AD1A-EFC3AB74F6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DBFAE8-A816-400F-833F-47EA4164347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42DEB8-F46D-4102-9B1B-D6FF68F09C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8FE18-47B6-41D0-8E34-59D7B3D79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61D968-CA46-4BC4-A76E-F651F23B970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236F18-620A-44F5-B549-43CA4921A3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959A10-61D3-4DBD-A828-F6E10455F5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B138CC-E478-4078-8C3E-BE262F53C3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B3E045-2C49-47E5-9485-29332989F2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EBA9397-19FE-4B4C-9653-93EE7193A5C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4E85005-35BD-46BA-B5F8-A0EE9EB7E7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BE92B-BF2E-46BF-8404-047BACDE3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6BAD9-0CA5-4CE2-8ABC-8D9FB0BCC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CA5F6-7FA1-4872-B48F-4CE15C6DC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0F8F6-52AF-4778-844A-676065262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333FC-FDF6-44A3-8478-E8C0726C5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04CC2-1B39-448C-ABF3-4464C5282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5082F-D27C-4DD0-AEC6-34E8F77DB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21DE1-B2AD-4889-B6C0-7897B54CB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0219-1D7D-4F42-9FA6-6DB9EC09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03BCD-6719-49FC-99B6-CC210B16E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0AC55-D30A-4BBF-AAA4-4C78EE021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A9CE4-C46B-4501-BF8C-BB6AA7FBC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9BF76-BCE1-4D6E-AE57-18E0E0F6F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BE6DC-EE0F-41C2-B593-FA60F8701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6F241-32B6-4173-99B0-2A15B9195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5C6F8-439C-4E3E-8486-1F76BDB7D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E6534-EFA5-44BC-B52B-434615635A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9F0A7-6CF1-4FD2-AE13-BE4BAF733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0CC8A-01FD-4930-AA3B-8B7ED1C83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3F158-E543-43A8-B22F-CBDCFCAB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69DF2-40CC-4E22-83FA-C0BDE416E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3526C-6BBC-4910-92BE-5449EB61F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67898A-8751-4B96-BD47-262668203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76B2D-470B-41D2-8EDC-BEFC6058A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BD9D0-9B82-4A42-A769-143386E21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18711-E917-479D-8B36-F7A77813B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53796-8C7E-4B19-89E9-8A3A78918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7E8DC4-F296-46A0-9BE7-7F50B89D2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65C78-6227-4DF1-911B-DE6F61E0B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7CE202-F2B2-47D4-A51D-B30403B879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9B629-E8C8-4F62-9A27-544138D1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4E814-650E-4ABA-A3F2-AC0207CAC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B63D6-CF5C-47C1-851C-027E3D185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C96C6-FE56-46F5-AE0C-2B812F21D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564FA-9E9E-4BAA-9C51-335B4AC14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97C3D-0616-414D-80D2-1BBC24943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B6424-CA85-426D-AC60-7796F874B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5BB38-BFA8-452C-AF0F-19FC4F9C3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9300E-C112-4455-B01E-C3C2FF346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D1E0A-CEE2-4F4F-9320-B18E7954D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0FD170-8F05-47D7-85A9-FB34D83F3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29D98-1FB3-4B03-AA2A-C680581F7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CD9152-3244-4FC3-9F83-1465BE7E7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BBA5D3-6B7E-47E3-A76C-906D42E738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1D035-54E5-497C-A0EF-0CA1D4107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CA3B7-D69C-4F4C-A9C5-1C08BA93E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26185-86CC-484B-8E3F-660B2AF3E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F5086-2606-42FA-BD2E-5167828E0A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1AB78-3D69-4339-984B-9997795FEB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597F1-8666-4DC5-B479-27E3E4203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6C6F9-DF11-4F3C-B960-A076250D7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708A5-A02A-4278-B1E5-B1BDF6506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C5768-83CF-4EDF-9F02-FFAD701D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746806-1BE0-4539-90E5-FFF0E2CAE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82AE8F-9E3B-40B4-A1CD-4948F0B361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1ECCB-C8E4-4C20-B3C1-BE8D06F6F1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1E3738-CF1E-41D9-B26D-8DF34B9479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06D1D-360A-41E5-A492-9E9A1BA42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43F60A-FE2A-4DC9-8EAE-6136CEBD13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B735F-A23C-4E1E-B3AC-D6CCED5F0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4A6D5-0BA2-470F-8094-93667EB2A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541576-FE90-4562-B6ED-368011F0B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7C476-8330-4EE1-A344-F0A2556AB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E341-B078-4451-9E2C-CB2BA802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1AF9E-5F4C-4C5D-9E87-73C4DDE18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0E41D-E90D-4D7F-A152-CBDBF38CE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CE961-BFC6-48FC-94E0-FDB3E1966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D9100D-B41F-4801-BB0F-A02F08EDE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7769E-31A0-48E5-BB67-1C715521B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8FF272-8561-405B-8330-77944850EE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52461-8036-4318-9558-96F77885B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4A2C4-5E23-40DB-8C34-93A9B112C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C05ACD-DDD9-473A-B8D8-241717531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B146F-9C99-45B7-8040-4F529A573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417A-53F2-4B05-9A19-08813566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BDB14-C485-45F0-A432-3C377876C5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C34FD-E34B-4B8A-ADBF-868950D6D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EF499-5CDA-4CC6-B8B7-FE258FFAA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F32A8-7F8F-47A0-A5D0-BE8092DDD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262A6-AA0C-452E-94A4-09137E96E2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32F23B-0A21-4BF0-BCD9-FD05A63CB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E53BE-0064-4548-BC97-799CFCC67A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25D818-E033-4A4F-AE0A-29C40BA398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F1948-2607-406F-B1C4-0DD99294C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9DA62-733F-4173-AB2F-F1C5BDBD8B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70DA-EC6D-4C12-8258-415729E67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97" name=""/>
          <p:cNvGrpSpPr/>
          <p:nvPr/>
        </p:nvGrpSpPr>
        <p:grpSpPr>
          <a:xfrm>
            <a:off x="0" y="2438280"/>
            <a:ext cx="9144000" cy="4046760"/>
            <a:chOff x="0" y="2438280"/>
            <a:chExt cx="9144000" cy="4046760"/>
          </a:xfrm>
        </p:grpSpPr>
        <p:sp>
          <p:nvSpPr>
            <p:cNvPr id="79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81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1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9645-3A9E-47EF-B1BA-C1F3E3D40B3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53" name=""/>
          <p:cNvGrpSpPr/>
          <p:nvPr/>
        </p:nvGrpSpPr>
        <p:grpSpPr>
          <a:xfrm>
            <a:off x="0" y="0"/>
            <a:ext cx="9144000" cy="6856560"/>
            <a:chOff x="0" y="0"/>
            <a:chExt cx="9144000" cy="6856560"/>
          </a:xfrm>
        </p:grpSpPr>
        <p:sp>
          <p:nvSpPr>
            <p:cNvPr id="8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0" name=""/>
            <p:cNvGrpSpPr/>
            <p:nvPr/>
          </p:nvGrpSpPr>
          <p:grpSpPr>
            <a:xfrm>
              <a:off x="0" y="2590920"/>
              <a:ext cx="9140760" cy="2949480"/>
              <a:chOff x="0" y="2590920"/>
              <a:chExt cx="9140760" cy="2949480"/>
            </a:xfrm>
          </p:grpSpPr>
          <p:sp>
            <p:nvSpPr>
              <p:cNvPr id="8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5"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7"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C944-45A9-44B3-9912-09D44925D6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34" name=""/>
          <p:cNvGrpSpPr/>
          <p:nvPr/>
        </p:nvGrpSpPr>
        <p:grpSpPr>
          <a:xfrm>
            <a:off x="0" y="0"/>
            <a:ext cx="9144000" cy="6856560"/>
            <a:chOff x="0" y="0"/>
            <a:chExt cx="9144000" cy="6856560"/>
          </a:xfrm>
        </p:grpSpPr>
        <p:sp>
          <p:nvSpPr>
            <p:cNvPr id="93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6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1" name=""/>
            <p:cNvGrpSpPr/>
            <p:nvPr/>
          </p:nvGrpSpPr>
          <p:grpSpPr>
            <a:xfrm>
              <a:off x="0" y="2590920"/>
              <a:ext cx="9140760" cy="2949480"/>
              <a:chOff x="0" y="2590920"/>
              <a:chExt cx="9140760" cy="2949480"/>
            </a:xfrm>
          </p:grpSpPr>
          <p:sp>
            <p:nvSpPr>
              <p:cNvPr id="97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75"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76"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77"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6084-3C61-4A9D-9273-4C9C9EF832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4" name=""/>
          <p:cNvGrpSpPr/>
          <p:nvPr/>
        </p:nvGrpSpPr>
        <p:grpSpPr>
          <a:xfrm>
            <a:off x="228600" y="228600"/>
            <a:ext cx="8686800" cy="5943600"/>
            <a:chOff x="228600" y="228600"/>
            <a:chExt cx="8686800" cy="5943600"/>
          </a:xfrm>
        </p:grpSpPr>
        <p:sp>
          <p:nvSpPr>
            <p:cNvPr id="1015"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1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20" name="PlaceHolder 3"/>
          <p:cNvSpPr>
            <a:spLocks noGrp="1"/>
          </p:cNvSpPr>
          <p:nvPr>
            <p:ph type="dt" idx="3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21" name="PlaceHolder 4"/>
          <p:cNvSpPr>
            <a:spLocks noGrp="1"/>
          </p:cNvSpPr>
          <p:nvPr>
            <p:ph type="ftr" idx="3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22"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2E68-14B2-472A-A0AE-F59D947F75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9" name=""/>
          <p:cNvGrpSpPr/>
          <p:nvPr/>
        </p:nvGrpSpPr>
        <p:grpSpPr>
          <a:xfrm>
            <a:off x="380880" y="457200"/>
            <a:ext cx="8398080" cy="5562720"/>
            <a:chOff x="380880" y="457200"/>
            <a:chExt cx="8398080" cy="5562720"/>
          </a:xfrm>
        </p:grpSpPr>
        <p:sp>
          <p:nvSpPr>
            <p:cNvPr id="1060"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064" name="PlaceHolder 2"/>
          <p:cNvSpPr>
            <a:spLocks noGrp="1"/>
          </p:cNvSpPr>
          <p:nvPr>
            <p:ph type="dt" idx="4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65" name="PlaceHolder 3"/>
          <p:cNvSpPr>
            <a:spLocks noGrp="1"/>
          </p:cNvSpPr>
          <p:nvPr>
            <p:ph type="ftr" idx="4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66" name="PlaceHolder 4"/>
          <p:cNvSpPr>
            <a:spLocks noGrp="1"/>
          </p:cNvSpPr>
          <p:nvPr>
            <p:ph type="sldNum" idx="4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7F37-895C-4026-980A-DEAEB7D302A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03" name=""/>
          <p:cNvGrpSpPr/>
          <p:nvPr/>
        </p:nvGrpSpPr>
        <p:grpSpPr>
          <a:xfrm>
            <a:off x="4716360" y="5345280"/>
            <a:ext cx="4427640" cy="1512720"/>
            <a:chOff x="4716360" y="5345280"/>
            <a:chExt cx="4427640" cy="1512720"/>
          </a:xfrm>
        </p:grpSpPr>
        <p:sp>
          <p:nvSpPr>
            <p:cNvPr id="110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0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0"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21"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22"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55A2-F6F9-44CD-ADCE-0083DAAA908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60" name=""/>
          <p:cNvGrpSpPr/>
          <p:nvPr/>
        </p:nvGrpSpPr>
        <p:grpSpPr>
          <a:xfrm>
            <a:off x="4716360" y="5345280"/>
            <a:ext cx="4427640" cy="1512720"/>
            <a:chOff x="4716360" y="5345280"/>
            <a:chExt cx="4427640" cy="1512720"/>
          </a:xfrm>
        </p:grpSpPr>
        <p:sp>
          <p:nvSpPr>
            <p:cNvPr id="116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6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16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7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7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88AC-FBF6-4368-B9D7-0A2734A4CCE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1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8"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0"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0C04-2847-446D-BC25-8931EE778B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8" name="PlaceHolder 2"/>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9"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0" name="PlaceHolder 4"/>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BA08-4FDB-4F41-9831-C1DE60DBC2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6FA5-6CE7-4C65-AAFA-24F6A2C6D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19" name=""/>
          <p:cNvGrpSpPr/>
          <p:nvPr/>
        </p:nvGrpSpPr>
        <p:grpSpPr>
          <a:xfrm>
            <a:off x="0" y="0"/>
            <a:ext cx="7242120" cy="1981080"/>
            <a:chOff x="0" y="0"/>
            <a:chExt cx="7242120" cy="1981080"/>
          </a:xfrm>
        </p:grpSpPr>
        <p:sp>
          <p:nvSpPr>
            <p:cNvPr id="12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BA63-5204-43CD-930E-09045599489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3" name=""/>
          <p:cNvGrpSpPr/>
          <p:nvPr/>
        </p:nvGrpSpPr>
        <p:grpSpPr>
          <a:xfrm>
            <a:off x="0" y="0"/>
            <a:ext cx="8458200" cy="5943600"/>
            <a:chOff x="0" y="0"/>
            <a:chExt cx="8458200" cy="5943600"/>
          </a:xfrm>
        </p:grpSpPr>
        <p:sp>
          <p:nvSpPr>
            <p:cNvPr id="16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95C8-B3AE-4E6E-9A61-6AA8B3804CA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600" y="1422360"/>
            <a:ext cx="9143640" cy="5435640"/>
            <a:chOff x="3600" y="1422360"/>
            <a:chExt cx="9143640" cy="5435640"/>
          </a:xfrm>
        </p:grpSpPr>
        <p:grpSp>
          <p:nvGrpSpPr>
            <p:cNvPr id="207" name=""/>
            <p:cNvGrpSpPr/>
            <p:nvPr/>
          </p:nvGrpSpPr>
          <p:grpSpPr>
            <a:xfrm>
              <a:off x="31680" y="1422360"/>
              <a:ext cx="9115560" cy="5435640"/>
              <a:chOff x="31680" y="1422360"/>
              <a:chExt cx="9115560" cy="5435640"/>
            </a:xfrm>
          </p:grpSpPr>
          <p:sp>
            <p:nvSpPr>
              <p:cNvPr id="20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21" name=""/>
            <p:cNvGrpSpPr/>
            <p:nvPr/>
          </p:nvGrpSpPr>
          <p:grpSpPr>
            <a:xfrm>
              <a:off x="3600" y="3639960"/>
              <a:ext cx="2193840" cy="2694240"/>
              <a:chOff x="3600" y="3639960"/>
              <a:chExt cx="2193840" cy="2694240"/>
            </a:xfrm>
          </p:grpSpPr>
          <p:sp>
            <p:nvSpPr>
              <p:cNvPr id="22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8"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C101-F5A5-4903-891C-E0929B6D2D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3600" y="1422360"/>
            <a:ext cx="9143640" cy="5435640"/>
            <a:chOff x="3600" y="1422360"/>
            <a:chExt cx="9143640" cy="5435640"/>
          </a:xfrm>
        </p:grpSpPr>
        <p:grpSp>
          <p:nvGrpSpPr>
            <p:cNvPr id="399" name=""/>
            <p:cNvGrpSpPr/>
            <p:nvPr/>
          </p:nvGrpSpPr>
          <p:grpSpPr>
            <a:xfrm>
              <a:off x="31680" y="1422360"/>
              <a:ext cx="9115560" cy="5435640"/>
              <a:chOff x="31680" y="1422360"/>
              <a:chExt cx="9115560" cy="5435640"/>
            </a:xfrm>
          </p:grpSpPr>
          <p:sp>
            <p:nvSpPr>
              <p:cNvPr id="4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13" name=""/>
            <p:cNvGrpSpPr/>
            <p:nvPr/>
          </p:nvGrpSpPr>
          <p:grpSpPr>
            <a:xfrm>
              <a:off x="3600" y="3639960"/>
              <a:ext cx="2193840" cy="2694240"/>
              <a:chOff x="3600" y="3639960"/>
              <a:chExt cx="2193840" cy="2694240"/>
            </a:xfrm>
          </p:grpSpPr>
          <p:sp>
            <p:nvSpPr>
              <p:cNvPr id="4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50"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5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52"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AF5F-F8DE-482C-BE8E-42390AF39BD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89" name=""/>
          <p:cNvGrpSpPr/>
          <p:nvPr/>
        </p:nvGrpSpPr>
        <p:grpSpPr>
          <a:xfrm>
            <a:off x="3800520" y="1789200"/>
            <a:ext cx="5348160" cy="5056200"/>
            <a:chOff x="3800520" y="1789200"/>
            <a:chExt cx="5348160" cy="5056200"/>
          </a:xfrm>
        </p:grpSpPr>
        <p:sp>
          <p:nvSpPr>
            <p:cNvPr id="59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9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52C4-EC77-4CAA-9E2E-2439A5E5D31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65" name=""/>
          <p:cNvGrpSpPr/>
          <p:nvPr/>
        </p:nvGrpSpPr>
        <p:grpSpPr>
          <a:xfrm>
            <a:off x="3800520" y="1789200"/>
            <a:ext cx="5348160" cy="5056200"/>
            <a:chOff x="3800520" y="1789200"/>
            <a:chExt cx="5348160" cy="5056200"/>
          </a:xfrm>
        </p:grpSpPr>
        <p:sp>
          <p:nvSpPr>
            <p:cNvPr id="66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6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01"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0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03"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A8EF-5F4A-4928-AA83-3B213B09132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40" name=""/>
          <p:cNvGrpSpPr/>
          <p:nvPr/>
        </p:nvGrpSpPr>
        <p:grpSpPr>
          <a:xfrm>
            <a:off x="0" y="2438280"/>
            <a:ext cx="9144000" cy="4046760"/>
            <a:chOff x="0" y="2438280"/>
            <a:chExt cx="9144000" cy="4046760"/>
          </a:xfrm>
        </p:grpSpPr>
        <p:sp>
          <p:nvSpPr>
            <p:cNvPr id="74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57"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59"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729C-87FA-457D-903C-93F47A18E74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6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06.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audio" Target="file:///tmp/home/.config/libreoffice/4/user/gallery/MSSN01081A0000%5B1%5D.wav" TargetMode="External"/><Relationship Id="rId2" Type="http://schemas.microsoft.com/office/2007/relationships/media" Target="file:///tmp/home/.config/libreoffice/4/user/gallery/MSSN01081A0000%5B1%5D.wav" TargetMode="External"/><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2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0" name=""/>
          <p:cNvSpPr txBox="1"/>
          <p:nvPr/>
        </p:nvSpPr>
        <p:spPr>
          <a:xfrm>
            <a:off x="990720" y="6094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LCOME PAR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01" name=""/>
          <p:cNvSpPr txBox="1"/>
          <p:nvPr/>
        </p:nvSpPr>
        <p:spPr>
          <a:xfrm>
            <a:off x="2362320" y="3657600"/>
            <a:ext cx="4495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S. SHARKE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TH GRADE SCIENC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MATH</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olicies</a:t>
            </a:r>
            <a:endParaRPr b="0" lang="en-US" sz="4400" spc="-1" strike="noStrike">
              <a:solidFill>
                <a:srgbClr val="ffffff"/>
              </a:solidFill>
              <a:latin typeface="Times New Roman"/>
            </a:endParaRPr>
          </a:p>
        </p:txBody>
      </p:sp>
      <p:sp>
        <p:nvSpPr>
          <p:cNvPr id="1327" name="PlaceHolder 2"/>
          <p:cNvSpPr>
            <a:spLocks noGrp="1"/>
          </p:cNvSpPr>
          <p:nvPr>
            <p:ph/>
          </p:nvPr>
        </p:nvSpPr>
        <p:spPr>
          <a:xfrm>
            <a:off x="533520" y="1828800"/>
            <a:ext cx="8153280" cy="26668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Class Noteboo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Arial"/>
              </a:rPr>
              <a:t>You are required to have a notebook and a folder for EVERY class.  </a:t>
            </a:r>
            <a:r>
              <a:rPr b="0" lang="en-US" sz="2700" spc="-1" strike="noStrike">
                <a:solidFill>
                  <a:srgbClr val="00ff00"/>
                </a:solidFill>
                <a:latin typeface="Arial"/>
              </a:rPr>
              <a:t>This will help you to study and to stay organized for the entire year.  Please have each item labeled with your name and subjec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28" name="" descr=""/>
          <p:cNvPicPr/>
          <p:nvPr/>
        </p:nvPicPr>
        <p:blipFill>
          <a:blip r:embed="rId1"/>
          <a:stretch/>
        </p:blipFill>
        <p:spPr>
          <a:xfrm>
            <a:off x="5638680" y="4267080"/>
            <a:ext cx="1801800" cy="1548000"/>
          </a:xfrm>
          <a:prstGeom prst="rect">
            <a:avLst/>
          </a:prstGeom>
          <a:ln w="0">
            <a:noFill/>
          </a:ln>
        </p:spPr>
      </p:pic>
    </p:spTree>
  </p:cSld>
  <p:transition advTm="1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olicies</a:t>
            </a:r>
            <a:endParaRPr b="0" lang="en-US" sz="44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PASS US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You will need to fill out the pass portion of your planner in ink.  Do not interrupt and ask to use the pass when I am talking to the class or if a student is presenting or addressing the clas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buse of this privilege will result in limited use of the pa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1" name="" descr=""/>
          <p:cNvPicPr/>
          <p:nvPr/>
        </p:nvPicPr>
        <p:blipFill>
          <a:blip r:embed="rId1"/>
          <a:stretch/>
        </p:blipFill>
        <p:spPr>
          <a:xfrm>
            <a:off x="4267080" y="5486400"/>
            <a:ext cx="304920" cy="304920"/>
          </a:xfrm>
          <a:prstGeom prst="rect">
            <a:avLst/>
          </a:prstGeom>
          <a:ln w="0">
            <a:noFill/>
          </a:ln>
        </p:spPr>
      </p:pic>
      <p:pic>
        <p:nvPicPr>
          <p:cNvPr id="1332" name="" descr=""/>
          <p:cNvPicPr/>
          <p:nvPr/>
        </p:nvPicPr>
        <p:blipFill>
          <a:blip r:embed="rId2"/>
          <a:stretch/>
        </p:blipFill>
        <p:spPr>
          <a:xfrm>
            <a:off x="3352680" y="5105520"/>
            <a:ext cx="1600200" cy="1531800"/>
          </a:xfrm>
          <a:prstGeom prst="rect">
            <a:avLst/>
          </a:prstGeom>
          <a:ln w="0">
            <a:noFill/>
          </a:ln>
        </p:spPr>
      </p:pic>
      <p:pic>
        <p:nvPicPr>
          <p:cNvPr id="1333" name="" descr=""/>
          <p:cNvPicPr/>
          <p:nvPr/>
        </p:nvPicPr>
        <p:blipFill>
          <a:blip r:embed="rId3"/>
          <a:stretch/>
        </p:blipFill>
        <p:spPr>
          <a:xfrm>
            <a:off x="5715000" y="5105520"/>
            <a:ext cx="1523880" cy="1455480"/>
          </a:xfrm>
          <a:prstGeom prst="rect">
            <a:avLst/>
          </a:prstGeom>
          <a:ln w="0">
            <a:noFill/>
          </a:ln>
        </p:spPr>
      </p:pic>
    </p:spTree>
  </p:cSld>
  <p:transition advTm="12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98" fill="hold"/>
                                        <p:tgtEl>
                                          <p:spTgt spid="1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Classroom Policies</a:t>
            </a:r>
            <a:endParaRPr b="0" lang="en-US" sz="4400" spc="-1" strike="noStrike">
              <a:solidFill>
                <a:srgbClr val="ffffcc"/>
              </a:solidFill>
              <a:latin typeface="Tahoma"/>
            </a:endParaRPr>
          </a:p>
        </p:txBody>
      </p:sp>
      <p:sp>
        <p:nvSpPr>
          <p:cNvPr id="13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ardy Polic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tudents are expected to be in class and seated when the bell rings, otherwise they are considered tardy.  When the bell rings, students should have all materials out and be ready to work.</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6" name="" descr=""/>
          <p:cNvPicPr/>
          <p:nvPr/>
        </p:nvPicPr>
        <p:blipFill>
          <a:blip r:embed="rId1"/>
          <a:stretch/>
        </p:blipFill>
        <p:spPr>
          <a:xfrm>
            <a:off x="3733920" y="4876920"/>
            <a:ext cx="1447560" cy="1820880"/>
          </a:xfrm>
          <a:prstGeom prst="rect">
            <a:avLst/>
          </a:prstGeom>
          <a:ln w="0">
            <a:noFill/>
          </a:ln>
        </p:spPr>
      </p:pic>
    </p:spTree>
  </p:cSld>
  <p:transition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Tahoma"/>
              </a:rPr>
              <a:t>Classroom Policies</a:t>
            </a:r>
            <a:endParaRPr b="0" lang="en-US" sz="4400" spc="-1" strike="noStrike">
              <a:solidFill>
                <a:srgbClr val="ffffcc"/>
              </a:solidFill>
              <a:latin typeface="Tahoma"/>
            </a:endParaRPr>
          </a:p>
        </p:txBody>
      </p:sp>
      <p:sp>
        <p:nvSpPr>
          <p:cNvPr id="1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Absenteeism Polic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Students have one day for each absence to turn work in.  </a:t>
            </a:r>
            <a:r>
              <a:rPr b="0" lang="en-US" sz="2000" spc="-1" strike="noStrike">
                <a:solidFill>
                  <a:srgbClr val="969696"/>
                </a:solidFill>
                <a:latin typeface="Tahoma"/>
              </a:rPr>
              <a:t>For example, if a student is absent on Tuesday and returns on Wednesday</a:t>
            </a:r>
            <a:r>
              <a:rPr b="1" lang="en-US" sz="2000" spc="-1" strike="noStrike">
                <a:solidFill>
                  <a:srgbClr val="969696"/>
                </a:solidFill>
                <a:latin typeface="Tahoma"/>
              </a:rPr>
              <a:t>, </a:t>
            </a:r>
            <a:r>
              <a:rPr b="0" lang="en-US" sz="2000" spc="-1" strike="noStrike">
                <a:solidFill>
                  <a:srgbClr val="969696"/>
                </a:solidFill>
                <a:latin typeface="Tahoma"/>
              </a:rPr>
              <a:t>Tuesday’s work is due on Thursday.  If a student misses Tuesday and Wednesday, then work for both of those days is due on the following Monda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If a student is absent on the day the assignment or project is due, the assignment is due the</a:t>
            </a:r>
            <a:r>
              <a:rPr b="1" lang="en-US" sz="2000" spc="-1" strike="noStrike">
                <a:solidFill>
                  <a:srgbClr val="969696"/>
                </a:solidFill>
                <a:latin typeface="Tahoma"/>
              </a:rPr>
              <a:t> first </a:t>
            </a:r>
            <a:r>
              <a:rPr b="0" lang="en-US" sz="2000" spc="-1" strike="noStrike">
                <a:solidFill>
                  <a:srgbClr val="969696"/>
                </a:solidFill>
                <a:latin typeface="Tahoma"/>
              </a:rPr>
              <a:t>day the student returns.  If the student is absent on test day, he/she is responsible for taking the test the day that he/she returns.  </a:t>
            </a:r>
            <a:r>
              <a:rPr b="1" lang="en-US" sz="2000" spc="-1" strike="noStrike">
                <a:solidFill>
                  <a:srgbClr val="969696"/>
                </a:solidFill>
                <a:latin typeface="Tahoma"/>
              </a:rPr>
              <a:t>It is the student’s responsibility to see me about taking the te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rPr>
              <a:t>Not all work can be made up.</a:t>
            </a:r>
            <a:r>
              <a:rPr b="0" lang="en-US" sz="2000" spc="-1" strike="noStrike">
                <a:solidFill>
                  <a:srgbClr val="969696"/>
                </a:solidFill>
                <a:latin typeface="Tahoma"/>
              </a:rPr>
              <a:t> Sometimes we watch videos in class, conduct lab investigations, hold class discussions and students are given credit for these activities.  If a student misses class, they may not be able to make up the assignment.  </a:t>
            </a:r>
            <a:r>
              <a:rPr b="1" lang="en-US" sz="2000" spc="-1" strike="noStrike">
                <a:solidFill>
                  <a:srgbClr val="969696"/>
                </a:solidFill>
                <a:latin typeface="Tahoma"/>
              </a:rPr>
              <a:t>It is the responsibility of the student to collect all missed 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9" name="" descr=""/>
          <p:cNvPicPr/>
          <p:nvPr/>
        </p:nvPicPr>
        <p:blipFill>
          <a:blip r:embed="rId1"/>
          <a:stretch/>
        </p:blipFill>
        <p:spPr>
          <a:xfrm>
            <a:off x="609480" y="228600"/>
            <a:ext cx="1447920" cy="1219320"/>
          </a:xfrm>
          <a:prstGeom prst="rect">
            <a:avLst/>
          </a:prstGeom>
          <a:ln w="0">
            <a:noFill/>
          </a:ln>
        </p:spPr>
      </p:pic>
      <p:pic>
        <p:nvPicPr>
          <p:cNvPr id="1340" name="" descr=""/>
          <p:cNvPicPr/>
          <p:nvPr/>
        </p:nvPicPr>
        <p:blipFill>
          <a:blip r:embed="rId2"/>
          <a:stretch/>
        </p:blipFill>
        <p:spPr>
          <a:xfrm>
            <a:off x="6934320" y="228600"/>
            <a:ext cx="1447560" cy="1219320"/>
          </a:xfrm>
          <a:prstGeom prst="rect">
            <a:avLst/>
          </a:prstGeom>
          <a:ln w="0">
            <a:noFill/>
          </a:ln>
        </p:spPr>
      </p:pic>
    </p:spTree>
  </p:cSld>
  <p:transition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assroom Policies</a:t>
            </a:r>
            <a:endParaRPr b="0" lang="en-US" sz="4400" spc="-1" strike="noStrike">
              <a:solidFill>
                <a:srgbClr val="b7e7ff"/>
              </a:solidFill>
              <a:latin typeface="Arial"/>
            </a:endParaRPr>
          </a:p>
        </p:txBody>
      </p:sp>
      <p:sp>
        <p:nvSpPr>
          <p:cNvPr id="13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ademic Integrit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ating is not tolerated at ATA. Students who choose to cheat may expect a variety of consequences, including, but not limited to, loss of grade, suspension, or loss of privilege. Consequences will be at my discretion and will be discussed with the student, parent(s), and administrators.</a:t>
            </a:r>
            <a:endParaRPr b="0" lang="en-US" sz="3200" spc="-1" strike="noStrike">
              <a:solidFill>
                <a:srgbClr val="ffffff"/>
              </a:solidFill>
              <a:latin typeface="Arial"/>
            </a:endParaRPr>
          </a:p>
        </p:txBody>
      </p:sp>
    </p:spTree>
  </p:cSld>
  <p:transition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b7e7ff"/>
              </a:solidFill>
              <a:latin typeface="Arial"/>
            </a:endParaRPr>
          </a:p>
        </p:txBody>
      </p:sp>
      <p:sp>
        <p:nvSpPr>
          <p:cNvPr id="13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king Forward To A Very Successful And Rewarding Y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ny questions or would like to learn more you can visit our class websi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sharkey.wikispaces.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Background</a:t>
            </a:r>
            <a:endParaRPr b="1" lang="en-US" sz="4400" spc="-1" strike="noStrike">
              <a:solidFill>
                <a:srgbClr val="feec94"/>
              </a:solidFill>
              <a:latin typeface="Times New Roman"/>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Year Teacher As Part Of The ATA Family</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University Of Michigan-Dearbor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uate Of Henry Ford Community College</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attending Wayne State University’s Master’s Program </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Elementary Education</a:t>
            </a:r>
            <a:endParaRPr b="0" lang="en-US" sz="3200" spc="-1" strike="noStrike">
              <a:solidFill>
                <a:srgbClr val="ffffff"/>
              </a:solidFill>
              <a:latin typeface="Times New Roman"/>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or-Science &amp; Social Studies  </a:t>
            </a:r>
            <a:endParaRPr b="0" lang="en-US" sz="3200" spc="-1" strike="noStrike">
              <a:solidFill>
                <a:srgbClr val="ffffff"/>
              </a:solidFill>
              <a:latin typeface="Times New Roman"/>
            </a:endParaRPr>
          </a:p>
        </p:txBody>
      </p:sp>
      <p:pic>
        <p:nvPicPr>
          <p:cNvPr id="1304" name="" descr=""/>
          <p:cNvPicPr/>
          <p:nvPr/>
        </p:nvPicPr>
        <p:blipFill>
          <a:blip r:embed="rId1"/>
          <a:stretch/>
        </p:blipFill>
        <p:spPr>
          <a:xfrm>
            <a:off x="6019920" y="4419720"/>
            <a:ext cx="2971800" cy="2073240"/>
          </a:xfrm>
          <a:prstGeom prst="rect">
            <a:avLst/>
          </a:prstGeom>
          <a:ln w="0">
            <a:noFill/>
          </a:ln>
        </p:spPr>
      </p:pic>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Classroom Procedures</a:t>
            </a:r>
            <a:endParaRPr b="0" lang="en-US" sz="4400" spc="-1" strike="noStrike">
              <a:solidFill>
                <a:srgbClr val="ffffcc"/>
              </a:solidFill>
              <a:latin typeface="Tahoma"/>
            </a:endParaRPr>
          </a:p>
        </p:txBody>
      </p:sp>
      <p:sp>
        <p:nvSpPr>
          <p:cNvPr id="1306" name="PlaceHolder 2"/>
          <p:cNvSpPr>
            <a:spLocks noGrp="1"/>
          </p:cNvSpPr>
          <p:nvPr>
            <p:ph/>
          </p:nvPr>
        </p:nvSpPr>
        <p:spPr>
          <a:xfrm>
            <a:off x="301320" y="1599840"/>
            <a:ext cx="8080200" cy="304812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ntering the classroom: </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Quietly turn in your homework folder</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Go directly to your seat</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egin the opening activity</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Wait for teacher instruction</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Follow all REACH values (Respect, Enthusiasm, Achievement, Citizenship, &amp; Hard Work)</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07" name="" descr=""/>
          <p:cNvPicPr/>
          <p:nvPr/>
        </p:nvPicPr>
        <p:blipFill>
          <a:blip r:embed="rId1"/>
          <a:stretch/>
        </p:blipFill>
        <p:spPr>
          <a:xfrm>
            <a:off x="2819520" y="4648320"/>
            <a:ext cx="3352680" cy="2057400"/>
          </a:xfrm>
          <a:prstGeom prst="rect">
            <a:avLst/>
          </a:prstGeom>
          <a:ln w="0">
            <a:noFill/>
          </a:ln>
        </p:spPr>
      </p:pic>
    </p:spTree>
  </p:cSld>
  <p:transition advTm="1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ssroom Procedures</a:t>
            </a:r>
            <a:endParaRPr b="0" lang="en-US" sz="4400" spc="-1" strike="noStrike">
              <a:solidFill>
                <a:srgbClr val="ffffcc"/>
              </a:solidFill>
              <a:latin typeface="Tahoma"/>
            </a:endParaRPr>
          </a:p>
        </p:txBody>
      </p:sp>
      <p:sp>
        <p:nvSpPr>
          <p:cNvPr id="1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missal at the end of the period:</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ven if you hear a bell, stay in your seat until you are dismissed by the teacher.</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Leave quietly and in an orderly manner.</a:t>
            </a:r>
            <a:endParaRPr b="0" lang="en-US" sz="3200" spc="-1" strike="noStrike">
              <a:solidFill>
                <a:srgbClr val="ffffff"/>
              </a:solidFill>
              <a:latin typeface="Tahoma"/>
            </a:endParaRPr>
          </a:p>
        </p:txBody>
      </p:sp>
      <p:pic>
        <p:nvPicPr>
          <p:cNvPr id="1310" name="" descr="">
            <a:hlinkClick r:id="" action="ppaction://media"/>
          </p:cNvPr>
          <p:cNvPicPr/>
          <p:nvPr>
            <a:audioFile r:link="rId1"/>
            <p:extLst>
              <p:ext uri="{DAA4B4D4-6D71-4841-9C94-3DE7FCFB9230}">
                <p14:media r:link="rId2"/>
              </p:ext>
            </p:extLst>
          </p:nvPr>
        </p:nvPicPr>
        <p:blipFill>
          <a:blip r:embed="rId3"/>
          <a:stretch>
            <a:fillRect/>
          </a:stretch>
        </p:blipFill>
        <p:spPr>
          <a:xfrm>
            <a:off x="2819520" y="3886200"/>
            <a:ext cx="3962160" cy="2590920"/>
          </a:xfrm>
          <a:prstGeom prst="rect">
            <a:avLst/>
          </a:prstGeom>
          <a:ln w="0">
            <a:noFill/>
          </a:ln>
        </p:spPr>
      </p:pic>
    </p:spTree>
  </p:cSld>
  <p:transition advTm="12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307" fill="hold"/>
                                        <p:tgtEl>
                                          <p:spTgt spid="13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1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assroom Procedures</a:t>
            </a:r>
            <a:endParaRPr b="0" lang="en-US" sz="4400" spc="-1" strike="noStrike">
              <a:solidFill>
                <a:srgbClr val="dbbd71"/>
              </a:solidFill>
              <a:latin typeface="Arial"/>
            </a:endParaRPr>
          </a:p>
        </p:txBody>
      </p:sp>
      <p:sp>
        <p:nvSpPr>
          <p:cNvPr id="1312" name="PlaceHolder 2"/>
          <p:cNvSpPr>
            <a:spLocks noGrp="1"/>
          </p:cNvSpPr>
          <p:nvPr>
            <p:ph/>
          </p:nvPr>
        </p:nvSpPr>
        <p:spPr>
          <a:xfrm>
            <a:off x="456840" y="1600200"/>
            <a:ext cx="8001000" cy="41148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tting students attention:</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acher says “Give me 5, can I have your eyes and ears, or  ladies and gentlemen, may I have your attention please?” students will:</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mediately stop what they are doing and look at the teacher</a:t>
            </a:r>
            <a:endParaRPr b="0" lang="en-US" sz="2800" spc="-1" strike="noStrike">
              <a:solidFill>
                <a:srgbClr val="ffffff"/>
              </a:solidFill>
              <a:latin typeface="Tahoma"/>
            </a:endParaRPr>
          </a:p>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ently wait for teacher instruction.</a:t>
            </a:r>
            <a:endParaRPr b="0" lang="en-US" sz="2800" spc="-1" strike="noStrike">
              <a:solidFill>
                <a:srgbClr val="ffffff"/>
              </a:solidFill>
              <a:latin typeface="Tahoma"/>
            </a:endParaRPr>
          </a:p>
        </p:txBody>
      </p:sp>
      <p:pic>
        <p:nvPicPr>
          <p:cNvPr id="1313" name="" descr=""/>
          <p:cNvPicPr/>
          <p:nvPr/>
        </p:nvPicPr>
        <p:blipFill>
          <a:blip r:embed="rId1"/>
          <a:stretch/>
        </p:blipFill>
        <p:spPr>
          <a:xfrm>
            <a:off x="6858000" y="4876920"/>
            <a:ext cx="1817640" cy="1734840"/>
          </a:xfrm>
          <a:prstGeom prst="rect">
            <a:avLst/>
          </a:prstGeom>
          <a:ln w="0">
            <a:noFill/>
          </a:ln>
        </p:spPr>
      </p:pic>
    </p:spTree>
  </p:cSld>
  <p:transition advTm="1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Hallway Procedure</a:t>
            </a:r>
            <a:endParaRPr b="1" lang="en-US" sz="4400" spc="-1" strike="noStrike">
              <a:solidFill>
                <a:srgbClr val="b9efee"/>
              </a:solidFill>
              <a:latin typeface="Garamond"/>
            </a:endParaRPr>
          </a:p>
        </p:txBody>
      </p:sp>
      <p:sp>
        <p:nvSpPr>
          <p:cNvPr id="1315"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are required to walk through the hallways in a respectful manner that is both safe and efficient.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will:</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ne up in a single-file line at the classroom door as directed by the teacher</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e forward in line</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alk silently on the </a:t>
            </a:r>
            <a:r>
              <a:rPr b="1" lang="en-US" sz="2400" spc="-1" strike="noStrike">
                <a:solidFill>
                  <a:srgbClr val="ffffff"/>
                </a:solidFill>
                <a:latin typeface="Garamond"/>
              </a:rPr>
              <a:t>right</a:t>
            </a:r>
            <a:r>
              <a:rPr b="0" lang="en-US" sz="2400" spc="-1" strike="noStrike">
                <a:solidFill>
                  <a:srgbClr val="ffffff"/>
                </a:solidFill>
                <a:latin typeface="Garamond"/>
              </a:rPr>
              <a:t> side of the hallway to the destination </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ep hands and feet to themselves</a:t>
            </a:r>
            <a:endParaRPr b="0" lang="en-US" sz="2400" spc="-1" strike="noStrike">
              <a:solidFill>
                <a:srgbClr val="ffffff"/>
              </a:solidFill>
              <a:latin typeface="Garamond"/>
            </a:endParaRPr>
          </a:p>
          <a:p>
            <a:pPr marL="560520" indent="-560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ure all books and/or supplies in hands in front or on sides</a:t>
            </a:r>
            <a:endParaRPr b="0" lang="en-US" sz="2400" spc="-1" strike="noStrike">
              <a:solidFill>
                <a:srgbClr val="ffffff"/>
              </a:solidFill>
              <a:latin typeface="Garamond"/>
            </a:endParaRPr>
          </a:p>
        </p:txBody>
      </p:sp>
      <p:pic>
        <p:nvPicPr>
          <p:cNvPr id="1316" name="" descr=""/>
          <p:cNvPicPr/>
          <p:nvPr/>
        </p:nvPicPr>
        <p:blipFill>
          <a:blip r:embed="rId2"/>
          <a:stretch/>
        </p:blipFill>
        <p:spPr>
          <a:xfrm>
            <a:off x="2438280" y="4952880"/>
            <a:ext cx="4206960" cy="1905120"/>
          </a:xfrm>
          <a:prstGeom prst="rect">
            <a:avLst/>
          </a:prstGeom>
          <a:ln w="0">
            <a:noFill/>
          </a:ln>
        </p:spPr>
      </p:pic>
    </p:spTree>
  </p:cSld>
  <p:transition advTm="1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lassroom Procedures</a:t>
            </a:r>
            <a:endParaRPr b="0" lang="en-US" sz="4400" spc="-1" strike="noStrike">
              <a:solidFill>
                <a:srgbClr val="ffffff"/>
              </a:solidFill>
              <a:latin typeface="Arial"/>
            </a:endParaRPr>
          </a:p>
        </p:txBody>
      </p:sp>
      <p:sp>
        <p:nvSpPr>
          <p:cNvPr id="1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Early Finisher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en you finish an assignment or test early, please follow these instructions:</a:t>
            </a:r>
            <a:endParaRPr b="0" lang="en-US" sz="3200" spc="-1" strike="noStrike">
              <a:solidFill>
                <a:srgbClr val="ffffff"/>
              </a:solidFill>
              <a:latin typeface="Arial"/>
            </a:endParaRPr>
          </a:p>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Quietly place your work into the correct tray</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or visit the approved student websites</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ilently sit at your desk unti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    </a:t>
            </a:r>
            <a:r>
              <a:rPr b="0" lang="en-US" sz="3200" spc="-1" strike="noStrike">
                <a:solidFill>
                  <a:srgbClr val="3366ff"/>
                </a:solidFill>
                <a:latin typeface="Arial"/>
              </a:rPr>
              <a:t>everyone is finished</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9" name="" descr=""/>
          <p:cNvPicPr/>
          <p:nvPr/>
        </p:nvPicPr>
        <p:blipFill>
          <a:blip r:embed="rId4"/>
          <a:stretch/>
        </p:blipFill>
        <p:spPr>
          <a:xfrm>
            <a:off x="6324480" y="4648320"/>
            <a:ext cx="2590920" cy="1904760"/>
          </a:xfrm>
          <a:prstGeom prst="rect">
            <a:avLst/>
          </a:prstGeom>
          <a:ln w="0">
            <a:noFill/>
          </a:ln>
        </p:spPr>
      </p:pic>
    </p:spTree>
  </p:cSld>
  <p:transition advTm="1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imes New Roman"/>
              </a:rPr>
              <a:t>Classroom Procedures</a:t>
            </a:r>
            <a:endParaRPr b="0" lang="en-US" sz="4400" spc="-1" strike="noStrike">
              <a:solidFill>
                <a:srgbClr val="ffffff"/>
              </a:solidFill>
              <a:latin typeface="Times New Roman"/>
            </a:endParaRPr>
          </a:p>
        </p:txBody>
      </p:sp>
      <p:sp>
        <p:nvSpPr>
          <p:cNvPr id="13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Arial"/>
              </a:rPr>
              <a:t>Finding work after being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Look at the weekly planner</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d find the day (s)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you were absen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Write the assignmen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in your planner and collect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any work that may go with it.</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You have one day for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every absence to finish the work.</a:t>
            </a:r>
            <a:endParaRPr b="0" lang="en-US" sz="2300" spc="-1" strike="noStrike">
              <a:solidFill>
                <a:srgbClr val="ffffff"/>
              </a:solidFill>
              <a:latin typeface="Arial"/>
            </a:endParaRPr>
          </a:p>
          <a:p>
            <a:pPr marL="609480" indent="-6094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After completing, return the </a:t>
            </a:r>
            <a:endParaRPr b="0" lang="en-US" sz="2300" spc="-1" strike="noStrike">
              <a:solidFill>
                <a:srgbClr val="ffffff"/>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00"/>
                </a:solidFill>
                <a:latin typeface="Arial"/>
              </a:rPr>
              <a:t>        </a:t>
            </a:r>
            <a:r>
              <a:rPr b="0" lang="en-US" sz="2300" spc="-1" strike="noStrike">
                <a:solidFill>
                  <a:srgbClr val="00ff00"/>
                </a:solidFill>
                <a:latin typeface="Arial"/>
              </a:rPr>
              <a:t>work to the absent tray.</a:t>
            </a:r>
            <a:endParaRPr b="0" lang="en-US" sz="2300" spc="-1" strike="noStrike">
              <a:solidFill>
                <a:srgbClr val="ffffff"/>
              </a:solidFill>
              <a:latin typeface="Arial"/>
            </a:endParaRPr>
          </a:p>
        </p:txBody>
      </p:sp>
      <p:pic>
        <p:nvPicPr>
          <p:cNvPr id="1322" name="" descr=""/>
          <p:cNvPicPr/>
          <p:nvPr/>
        </p:nvPicPr>
        <p:blipFill>
          <a:blip r:embed="rId1"/>
          <a:stretch/>
        </p:blipFill>
        <p:spPr>
          <a:xfrm>
            <a:off x="5562720" y="2133720"/>
            <a:ext cx="3276360" cy="2819160"/>
          </a:xfrm>
          <a:prstGeom prst="rect">
            <a:avLst/>
          </a:prstGeom>
          <a:ln w="0">
            <a:noFill/>
          </a:ln>
        </p:spPr>
      </p:pic>
    </p:spTree>
  </p:cSld>
  <p:transition advTm="1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Procedures</a:t>
            </a:r>
            <a:endParaRPr b="0" lang="en-US" sz="4400" spc="-1" strike="noStrike">
              <a:solidFill>
                <a:srgbClr val="ffffcc"/>
              </a:solidFill>
              <a:latin typeface="Arial"/>
            </a:endParaRPr>
          </a:p>
        </p:txBody>
      </p:sp>
      <p:sp>
        <p:nvSpPr>
          <p:cNvPr id="1324" name="PlaceHolder 2"/>
          <p:cNvSpPr>
            <a:spLocks noGrp="1"/>
          </p:cNvSpPr>
          <p:nvPr>
            <p:ph/>
          </p:nvPr>
        </p:nvSpPr>
        <p:spPr>
          <a:xfrm>
            <a:off x="380880" y="1523880"/>
            <a:ext cx="8229600" cy="365760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aeaea"/>
                </a:solidFill>
                <a:latin typeface="Verdana"/>
              </a:rPr>
              <a:t>Making poor choice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1st time—Verbal Warning</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2nd time—Loss of Recess</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3rd time—Conference with Student</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4th time—Parent Contact and Possible Removal From Classroom</a:t>
            </a:r>
            <a:endParaRPr b="0" lang="en-US" sz="2900" spc="-1" strike="noStrike">
              <a:solidFill>
                <a:srgbClr val="eaeaea"/>
              </a:solidFill>
              <a:latin typeface="Verdana"/>
            </a:endParaRPr>
          </a:p>
          <a:p>
            <a:pPr marL="590400" indent="-590400">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Verdana"/>
              </a:rPr>
              <a:t>5th time---Parent / Student Conference</a:t>
            </a:r>
            <a:endParaRPr b="0" lang="en-US" sz="2900" spc="-1" strike="noStrike">
              <a:solidFill>
                <a:srgbClr val="eaeaea"/>
              </a:solidFill>
              <a:latin typeface="Verdana"/>
            </a:endParaRPr>
          </a:p>
        </p:txBody>
      </p:sp>
      <p:pic>
        <p:nvPicPr>
          <p:cNvPr id="1325" name="" descr=""/>
          <p:cNvPicPr/>
          <p:nvPr/>
        </p:nvPicPr>
        <p:blipFill>
          <a:blip r:embed="rId1"/>
          <a:stretch/>
        </p:blipFill>
        <p:spPr>
          <a:xfrm>
            <a:off x="3200400" y="5105520"/>
            <a:ext cx="2819520" cy="1752480"/>
          </a:xfrm>
          <a:prstGeom prst="rect">
            <a:avLst/>
          </a:prstGeom>
          <a:ln w="0">
            <a:noFill/>
          </a:ln>
        </p:spPr>
      </p:pic>
    </p:spTree>
  </p:cSld>
  <p:transition advTm="1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20:43:58Z</dcterms:created>
  <dc:creator>Stephanie Green</dc:creator>
  <dc:description/>
  <dc:language>en-US</dc:language>
  <cp:lastModifiedBy>a</cp:lastModifiedBy>
  <dcterms:modified xsi:type="dcterms:W3CDTF">2009-09-02T17:43:08Z</dcterms:modified>
  <cp:revision>8</cp:revision>
  <dc:subject/>
  <dc:title>                         </dc:title>
</cp:coreProperties>
</file>