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gif" ContentType="image/gif"/>
  <Override PartName="/ppt/media/image16.jpeg" ContentType="image/jpeg"/>
  <Override PartName="/ppt/media/image10.wmf" ContentType="image/x-wmf"/>
  <Override PartName="/ppt/media/image2.png" ContentType="image/png"/>
  <Override PartName="/ppt/media/image12.wmf" ContentType="image/x-wmf"/>
  <Override PartName="/ppt/media/image4.png" ContentType="image/png"/>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17.jpeg" ContentType="image/jpeg"/>
  <Override PartName="/ppt/media/image3.png" ContentType="image/png"/>
  <Override PartName="/ppt/media/image19.jpeg" ContentType="image/jpeg"/>
  <Override PartName="/ppt/media/image6.wmf" ContentType="image/x-wmf"/>
  <Override PartName="/ppt/media/image7.wmf" ContentType="image/x-wmf"/>
  <Override PartName="/ppt/media/image8.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9D5FC-97FE-434A-BD9A-9A01A7B1A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CCB76-EDE7-4F5B-9CC4-1CB48D993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8DD082-1138-478F-8C87-ACE2FC66F7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8807C1-B670-432D-ACC9-4D51FD5C5F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1B4603-7E14-418B-992D-724CB66ED0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013EF6-603B-406E-901E-117E3FEAA3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D34B5C-BB75-4124-84E8-8828BEDD34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361C7A-D1EA-41E9-9533-1C47397D68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6360F5-A57E-4E0E-B368-189D3562CE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7513E0-3568-4220-B70C-C66F77885D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AA8132-C145-4CF5-8237-D1F2B61925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C89298-F9BE-4D4C-913B-434477C45CC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7F2B5-32BC-4715-A456-5FD733A8A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1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C8FCFC-1565-47B9-B102-E813B02B77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8A1B4A-4025-4F70-BE9E-485F487EF2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EE8309-3182-4E47-9821-E8EE66B1EA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91DCFB-D814-4E6C-9626-7C647E6A15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D940CB-E039-48C6-9B1B-0517AF4E37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7D00B4-A10F-44A4-B365-698A4C4069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5823A9-FD77-4486-81C6-2CCC817E69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8B7085-B1E3-480D-B130-673F6A62F9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ECAB1B-C010-48E5-B887-C5F3E9CA1D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5982C0-6EF4-429A-BE80-B3170991DB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BF8DC-916C-4FE5-B84C-35049919C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0CF734-7D79-40EB-8D6F-75B06F700D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3F394E-F321-4F86-ADA2-DB03235335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D904D2-A902-4A95-854C-6C4A7C68B3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91F448-2797-40AD-9274-6914904326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A4AF33-6062-419F-8CF2-C15F6F4D04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A724A1-08B3-4F9C-94AE-684276A153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D48B07-E3A1-436B-8FDB-4865763FE0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FDF4D8-034C-48C7-9C13-D75BD309E8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01C865-3BD7-4C0A-AFDB-75D438396C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8DDF46-409E-441A-8454-983377CA35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08257-9CBB-445A-ACBC-32100C775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FAD3DB-A6E0-4E73-9732-162E4CCC4B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128E89-98E4-4061-80AD-C72381255A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53580D-6D71-4959-9F66-79B9194F1C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14B849-1A5F-41BB-86AB-8A49B68CF7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E1B130-88F5-4857-B0AC-1ED326890C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4CD954-E30C-4604-ACD3-3EE0434F00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E8AC21-0B4C-499E-811F-18918156C8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4572D0-7572-4551-9CAD-F657459DED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CEAECC-93DB-454E-9366-0ED6FAE8CB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9AD495-9DD0-4107-BB84-EF75411AA5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D6421-D80D-4A8F-B1BE-9EE0A2D1C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5DF5A6-B4CF-4E94-A403-AF7C9E49E9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9934BE-4D34-47CB-B951-22283D0933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2C525D-7E34-4FE9-83F2-FFF72270CB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C577D3B-8BC9-45EA-94AD-859E659E34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D4975E-A752-4B0D-98A8-FE422101FDE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6EC33B2-9B56-4328-B5AD-5E6EBCC2CB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C02581-4F17-42A8-91FA-479A3825F4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8D57FE-B556-4124-801A-B73E20DAFC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A7F49F-55DD-44F6-856B-B0E63F4344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CAA98B-0177-45CC-87C1-387E52CC65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0C11F-0507-4C48-BFA9-0999C4350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59BBEA-BCBE-447B-9763-B10487B4E1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89700B-279B-4667-B0A1-CF43F126B0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772422-8876-40CB-8D8E-9866F1DA5E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75D9C8-36FF-4F11-BDB6-2214404912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A393C1-057B-46E8-BC86-85643FB004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27D318-31D8-4864-9656-42A71D903F0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D47692-855A-4C20-913A-6F7FFCFE08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6D685B0-F227-4484-A73C-6C88D833352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014C75-11D2-4B20-9B7F-949B41F8A92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B55C1D-DE80-4BA4-8DA0-6D7CA86502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F6110-2AAA-4C79-9EE5-93A06364A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DD2443-E9FA-499F-9DCC-006148B62A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258285-E5EC-4A3D-9E33-7AD36B55A3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3F16AC-F840-4D48-889D-6EDD5A990A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992D99-41BE-471D-8A83-8BF41307CD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376884-C688-4FA3-82FB-C997F2171D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F6EC42-7FF6-4135-A41E-0BA22B19B9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B7E1FBB-9C78-4B28-9EB7-74861E67BF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64EE9D-9CB2-4382-A849-B51390AC92F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9019256-33B4-4C53-BC24-C48ADF468C3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7B48B45-F1CB-4E73-9179-4274B451E4F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B7FFA-6864-462C-86CD-9102EFFE3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E94CF2-06A8-4727-8D27-8331CF68B0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119216-7CB6-4486-B363-68D067F611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F1B1926-A6F0-4A44-B8A6-EF239D8D83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38AC8C-1072-412D-923D-A4C276D3554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178B8F-D76C-4AE6-8A44-E7D63C2489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ECB43A-32DE-4545-9316-23FA863617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FE224F-4D92-4BA1-9257-7FCB988537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F1265D-2D2C-4034-AB7F-18409A213C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90C863-B6AC-46C8-A895-8A80C48A56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A4ABFD-D747-41EB-A940-0D618D1FE62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D1925-5F0F-4E68-8C8A-2ED8188DE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DD7CA5E-9D3C-4509-878C-D4B94214223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D455639-2460-4668-AAC4-85D6ED32E21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0E6249-85FA-4583-878D-E47592FCFC3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7CEF46-47FF-4FE3-9EB1-6B599584CC1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97725C9-EF83-408F-B51B-BDB37C4DF3B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349AE76-E48D-4CE3-9B20-EE575D29B55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85D0F1-C536-4DBF-8967-72C90A5272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3342B7-6E57-48E1-87C4-EBDDAF2CBD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CC13B0-B303-4DBE-96BA-09C39FE26D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AE0127-8622-4329-BBD6-C803077058B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C2C0E-81FF-4B54-A7F7-4178FDA0B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65205FF-5401-4192-BC55-4AF6EB8822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2A36F95-74E8-4316-A4E7-200A99562E7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5DAAEF4-A7D2-4725-B995-563FF399CBB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038536C-4B07-48E6-A728-0E9E200EF28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460587-710D-4E3C-84EE-5DDC473E0E0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103FE3-1219-4860-8750-224B7F23E1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F94F09-B4B1-4D4E-B072-CCD9CB892B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4517584-E861-44E4-B001-898F5BAFF8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08F54EF-79B0-44EE-A88B-36C3E22B9E6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D508AF-DA1D-4FF4-8763-64289A58BCE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EF708-D27E-4354-A5DA-6FE03F243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61B79-45BA-4993-B127-C48989889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B69827-2C47-41E5-9A20-B63BFFADE3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1217A0-DA54-4D7A-BF3F-91A503C2D5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9AFD5E-DAD7-42FA-BF01-94F0A532250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E143F85-CC8A-4DB9-A604-55C802FA697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5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597585A-6F38-4ACC-9E8D-84CDF3994CB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FA7007E-D83D-431B-ACB7-88A4D432895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89A0485-4714-418A-B3CA-CDE6D1F6084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298265C-49C3-4AD5-B224-CFE701AE367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4926819-1C54-4CCC-956F-C4FA5959F01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7BA0131-C5B3-455D-8670-8842302B96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F40FB-86A5-4DFF-95B2-FE790CEC0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9DC72C6-EB71-4D95-B119-ACCBBD0BBE6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9A59A6-5317-49C3-9BAB-69E42EC688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005EA5-E34C-41A8-A830-8273A9B5284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6E2A997-F548-45A2-AB5C-BD77680AA5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BADDE5A-6E04-4903-9052-DC302FB0E93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4A8A1D6-8B85-4729-B139-BE5DCA69871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9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1CB2A0B-71BE-4A92-9591-260F17DE33F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3D027-40E7-4913-9DBA-E9B0572ED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866FC-91AD-4655-B3DE-FC245E47B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C315B-4024-4FD8-A3AC-7BD1DCBE7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0871C1-0A99-4632-BE14-EA37BA52BE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381C1D-799B-47F0-BBB2-1F3F5AEC5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F3925-B769-4C9C-8A3D-771C56A326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24E11-AF90-4DDA-877B-C6168883C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1E5559-FE88-4CD9-A8E6-3637FE188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A02B2-33D3-4575-860E-D283B4A57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D82AB-2FC9-41DA-8D30-B38468D10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973EB-9B3F-4CCC-B6D9-D19E3BAB6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E0FAF-DB74-43F2-BD18-502712F35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9CD63-A6F7-48AE-AF0B-4EAC89297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09747-CC3F-47D9-9E68-BD1F447F3B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1C7956-1598-485F-9C92-970E223E2A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0ECC3C-82B8-44A5-8C3A-49EF80ED2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49DE8A-17A9-48C6-8307-40527C5593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0E385A-60D6-467C-B177-41FA44324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C006C2-75E7-47CB-AC4D-D321558D9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DA8D6-3D9E-4294-8092-9129C75FC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FFD6C-34AF-4B02-A83E-58182314C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409B5-3BB6-4823-8613-0C2E4E0F8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18B2B6-AD7D-4969-93F8-5575B0D6C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E3F84-A6A8-4216-A12F-0AC31C5AF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39716-1925-4639-A336-9E753E574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AEA95-33D8-4FE0-827E-44F3F3169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CB0081-BCC3-42E4-977A-438143F86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7B0671-6B4F-441C-8B97-624F73811C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004955-B420-4252-898F-F65A088BA8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1585D7-0666-45F2-BECB-A9AD61FCC1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44289-1A3A-42F6-AE06-A37B569DF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5667F-15DF-42CA-A6AD-240B2D37C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D63DA4-62F8-4585-97AB-F67EFFCDD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5559B-B496-4C49-A277-6ED6EFF3FE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292CF-61D9-4910-9425-9788810846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162D1-3D68-4D22-912A-E0E2144AF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170AD-7B0B-4574-9469-2945404AB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4E25B-8DCE-4960-AE5D-795DEEAA6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284CA-1BE2-457B-B087-656C48B41B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6B843-1C8C-4415-9DE3-9453150361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6A556D-3B6C-48EF-948C-9D2C4B4233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B3212-B42A-48DE-8B59-119EF0109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D2871D-AEED-49DA-ADAE-B91531074B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E9064E-F60F-4292-9CAF-24B5F2A77A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31B80-4696-4A65-B08F-BA5A57D4E5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685111-7550-46CB-8916-556F77E2CA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CE6FFA-5CC0-41A5-8B72-701DE445B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D7FB60-D65E-44CC-9786-AA87A8927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D9620D-9B26-4C2E-8070-85394CE249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5D035-632B-49B0-9680-8A7FC9739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0FBFA-0DC8-4336-A956-CB0B42168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099821-A6AD-4CC5-B418-57BEE1A1A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857A-CB35-4FF3-B41C-1A59E98CA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5F6443-94BD-4299-84DE-E4EE33289A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CEA91A-BF99-4415-8E23-7800A71EF0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B8D74E-5EF1-465D-AE07-02C09F55FD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5951D2-6AC7-4AEE-8D3A-682BC67B4C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F8E940-1F83-41D4-BDA7-7C013A55A6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F71948-ED44-4D40-817B-BD22594B98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8071DC-0F52-44C1-B0D0-0BD275249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9BA45E-E2F1-401A-A227-7ABB03841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045D9-45F6-4F6A-BF70-924DB09B85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185E3-0FA6-4B57-8C47-D36282F9A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0F694-30CF-436F-AF29-A67749C75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C7EA5-5AF2-49E3-A63B-005DD889E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8711D9-9EE0-4949-8735-86B1CEC89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BDD5AB-2165-499A-9728-A5D00BFAC0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0EED55-50E6-4244-89CF-BAFCB159F7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29EC58-3442-4399-BF79-7AF8551BDB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AEFA9A-D655-4701-860F-75CF39C61C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67FE0A-2109-44E0-83A4-FBD582807E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F71B99-2258-43FE-8E81-B600484A1C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48DD74-AEB3-4FD1-B610-4A6D4F3DF9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673386-D690-4341-A4EF-E413E7641D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96AF0-818E-415A-8629-D980AF3E2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60ABC1-D7F7-47C3-B5DA-75152E601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203542-0BBD-4686-891B-F37D718B82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AE0C6-EA54-44BD-AAD4-6D84C58B65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C95341-6FF5-4B78-97F5-B0D996E03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2B25A-F1A3-40B9-ACDE-53638D9A93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3F6D6C-4DDD-473A-B9B7-130D06D3A5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935206-FD61-4EAA-9066-7A76FB6936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943A19-4F2C-4C0D-8E6D-F71215AF56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CCA4BF-C1FA-4938-BFEF-05847B50E3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EEEE0C-B401-41E6-A31D-65CA0885AE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9DB8-AD35-44F5-9812-447E7FD40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97" name=""/>
          <p:cNvGrpSpPr/>
          <p:nvPr/>
        </p:nvGrpSpPr>
        <p:grpSpPr>
          <a:xfrm>
            <a:off x="0" y="2438280"/>
            <a:ext cx="9144000" cy="4046760"/>
            <a:chOff x="0" y="2438280"/>
            <a:chExt cx="9144000" cy="4046760"/>
          </a:xfrm>
        </p:grpSpPr>
        <p:sp>
          <p:nvSpPr>
            <p:cNvPr id="79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814"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16"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76CA-70FA-4A3E-99E7-E726ABE89FD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53" name=""/>
          <p:cNvGrpSpPr/>
          <p:nvPr/>
        </p:nvGrpSpPr>
        <p:grpSpPr>
          <a:xfrm>
            <a:off x="0" y="0"/>
            <a:ext cx="9144000" cy="6856560"/>
            <a:chOff x="0" y="0"/>
            <a:chExt cx="9144000" cy="6856560"/>
          </a:xfrm>
        </p:grpSpPr>
        <p:sp>
          <p:nvSpPr>
            <p:cNvPr id="85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5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8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0" name=""/>
            <p:cNvGrpSpPr/>
            <p:nvPr/>
          </p:nvGrpSpPr>
          <p:grpSpPr>
            <a:xfrm>
              <a:off x="0" y="2590920"/>
              <a:ext cx="9140760" cy="2949480"/>
              <a:chOff x="0" y="2590920"/>
              <a:chExt cx="9140760" cy="2949480"/>
            </a:xfrm>
          </p:grpSpPr>
          <p:sp>
            <p:nvSpPr>
              <p:cNvPr id="89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5"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9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97"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CC1A-026E-47D1-ADAE-D8500181E1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934" name=""/>
          <p:cNvGrpSpPr/>
          <p:nvPr/>
        </p:nvGrpSpPr>
        <p:grpSpPr>
          <a:xfrm>
            <a:off x="0" y="0"/>
            <a:ext cx="9144000" cy="6856560"/>
            <a:chOff x="0" y="0"/>
            <a:chExt cx="9144000" cy="6856560"/>
          </a:xfrm>
        </p:grpSpPr>
        <p:sp>
          <p:nvSpPr>
            <p:cNvPr id="93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5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6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1" name=""/>
            <p:cNvGrpSpPr/>
            <p:nvPr/>
          </p:nvGrpSpPr>
          <p:grpSpPr>
            <a:xfrm>
              <a:off x="0" y="2590920"/>
              <a:ext cx="9140760" cy="2949480"/>
              <a:chOff x="0" y="2590920"/>
              <a:chExt cx="9140760" cy="2949480"/>
            </a:xfrm>
          </p:grpSpPr>
          <p:sp>
            <p:nvSpPr>
              <p:cNvPr id="97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975"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76"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77"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65DC-75E4-4635-9B57-C6EFA7865C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4" name=""/>
          <p:cNvGrpSpPr/>
          <p:nvPr/>
        </p:nvGrpSpPr>
        <p:grpSpPr>
          <a:xfrm>
            <a:off x="228600" y="228600"/>
            <a:ext cx="8686800" cy="5943600"/>
            <a:chOff x="228600" y="228600"/>
            <a:chExt cx="8686800" cy="5943600"/>
          </a:xfrm>
        </p:grpSpPr>
        <p:sp>
          <p:nvSpPr>
            <p:cNvPr id="1015"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19"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020" name="PlaceHolder 3"/>
          <p:cNvSpPr>
            <a:spLocks noGrp="1"/>
          </p:cNvSpPr>
          <p:nvPr>
            <p:ph type="dt" idx="37"/>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21" name="PlaceHolder 4"/>
          <p:cNvSpPr>
            <a:spLocks noGrp="1"/>
          </p:cNvSpPr>
          <p:nvPr>
            <p:ph type="ftr" idx="38"/>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22"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7240-E718-4062-AF94-86D253E5CAB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59" name=""/>
          <p:cNvGrpSpPr/>
          <p:nvPr/>
        </p:nvGrpSpPr>
        <p:grpSpPr>
          <a:xfrm>
            <a:off x="380880" y="457200"/>
            <a:ext cx="8398080" cy="5562720"/>
            <a:chOff x="380880" y="457200"/>
            <a:chExt cx="8398080" cy="5562720"/>
          </a:xfrm>
        </p:grpSpPr>
        <p:sp>
          <p:nvSpPr>
            <p:cNvPr id="1060"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6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064" name="PlaceHolder 2"/>
          <p:cNvSpPr>
            <a:spLocks noGrp="1"/>
          </p:cNvSpPr>
          <p:nvPr>
            <p:ph type="dt" idx="40"/>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65" name="PlaceHolder 3"/>
          <p:cNvSpPr>
            <a:spLocks noGrp="1"/>
          </p:cNvSpPr>
          <p:nvPr>
            <p:ph type="ftr" idx="41"/>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66" name="PlaceHolder 4"/>
          <p:cNvSpPr>
            <a:spLocks noGrp="1"/>
          </p:cNvSpPr>
          <p:nvPr>
            <p:ph type="sldNum" idx="42"/>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9C44-1C76-4429-9F13-73C1EA9E74C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03" name=""/>
          <p:cNvGrpSpPr/>
          <p:nvPr/>
        </p:nvGrpSpPr>
        <p:grpSpPr>
          <a:xfrm>
            <a:off x="4716360" y="5345280"/>
            <a:ext cx="4427640" cy="1512720"/>
            <a:chOff x="4716360" y="5345280"/>
            <a:chExt cx="4427640" cy="1512720"/>
          </a:xfrm>
        </p:grpSpPr>
        <p:sp>
          <p:nvSpPr>
            <p:cNvPr id="1104"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06"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107"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0"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21"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22"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FEF9-31A0-4004-8697-272A185DAD2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12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60" name=""/>
          <p:cNvGrpSpPr/>
          <p:nvPr/>
        </p:nvGrpSpPr>
        <p:grpSpPr>
          <a:xfrm>
            <a:off x="4716360" y="5345280"/>
            <a:ext cx="4427640" cy="1512720"/>
            <a:chOff x="4716360" y="5345280"/>
            <a:chExt cx="4427640" cy="1512720"/>
          </a:xfrm>
        </p:grpSpPr>
        <p:sp>
          <p:nvSpPr>
            <p:cNvPr id="116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6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16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177"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78"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79"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B8A9-DEEC-43EE-82C2-70831AD9DD4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1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8" name="PlaceHolder 3"/>
          <p:cNvSpPr>
            <a:spLocks noGrp="1"/>
          </p:cNvSpPr>
          <p:nvPr>
            <p:ph type="dt" idx="4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1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0" name="PlaceHolder 5"/>
          <p:cNvSpPr>
            <a:spLocks noGrp="1"/>
          </p:cNvSpPr>
          <p:nvPr>
            <p:ph type="sldNum" idx="5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3DA0-FD07-4345-95FF-CE1B802CAD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58" name="PlaceHolder 2"/>
          <p:cNvSpPr>
            <a:spLocks noGrp="1"/>
          </p:cNvSpPr>
          <p:nvPr>
            <p:ph type="dt" idx="5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59"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60" name="PlaceHolder 4"/>
          <p:cNvSpPr>
            <a:spLocks noGrp="1"/>
          </p:cNvSpPr>
          <p:nvPr>
            <p:ph type="sldNum" idx="5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0AB7-78E4-4EC6-A661-BC383EA32A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B773-F7D1-4C77-ADF9-59EA8AF87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19" name=""/>
          <p:cNvGrpSpPr/>
          <p:nvPr/>
        </p:nvGrpSpPr>
        <p:grpSpPr>
          <a:xfrm>
            <a:off x="0" y="0"/>
            <a:ext cx="7242120" cy="1981080"/>
            <a:chOff x="0" y="0"/>
            <a:chExt cx="7242120" cy="1981080"/>
          </a:xfrm>
        </p:grpSpPr>
        <p:sp>
          <p:nvSpPr>
            <p:cNvPr id="120"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DD43-0DC1-4066-B2FD-350D405A9F0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63" name=""/>
          <p:cNvGrpSpPr/>
          <p:nvPr/>
        </p:nvGrpSpPr>
        <p:grpSpPr>
          <a:xfrm>
            <a:off x="0" y="0"/>
            <a:ext cx="8458200" cy="5943600"/>
            <a:chOff x="0" y="0"/>
            <a:chExt cx="8458200" cy="5943600"/>
          </a:xfrm>
        </p:grpSpPr>
        <p:sp>
          <p:nvSpPr>
            <p:cNvPr id="16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6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6C3D-84C3-4DB3-B07E-077A04DECB3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69"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3600" y="1422360"/>
            <a:ext cx="9143640" cy="5435640"/>
            <a:chOff x="3600" y="1422360"/>
            <a:chExt cx="9143640" cy="5435640"/>
          </a:xfrm>
        </p:grpSpPr>
        <p:grpSp>
          <p:nvGrpSpPr>
            <p:cNvPr id="207" name=""/>
            <p:cNvGrpSpPr/>
            <p:nvPr/>
          </p:nvGrpSpPr>
          <p:grpSpPr>
            <a:xfrm>
              <a:off x="31680" y="1422360"/>
              <a:ext cx="9115560" cy="5435640"/>
              <a:chOff x="31680" y="1422360"/>
              <a:chExt cx="9115560" cy="5435640"/>
            </a:xfrm>
          </p:grpSpPr>
          <p:sp>
            <p:nvSpPr>
              <p:cNvPr id="20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21" name=""/>
            <p:cNvGrpSpPr/>
            <p:nvPr/>
          </p:nvGrpSpPr>
          <p:grpSpPr>
            <a:xfrm>
              <a:off x="3600" y="3639960"/>
              <a:ext cx="2193840" cy="2694240"/>
              <a:chOff x="3600" y="3639960"/>
              <a:chExt cx="2193840" cy="2694240"/>
            </a:xfrm>
          </p:grpSpPr>
          <p:sp>
            <p:nvSpPr>
              <p:cNvPr id="22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4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58"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59"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0"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89BA-06A8-4B91-A696-1E7FF31714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98" name=""/>
          <p:cNvGrpSpPr/>
          <p:nvPr/>
        </p:nvGrpSpPr>
        <p:grpSpPr>
          <a:xfrm>
            <a:off x="3600" y="1422360"/>
            <a:ext cx="9143640" cy="5435640"/>
            <a:chOff x="3600" y="1422360"/>
            <a:chExt cx="9143640" cy="5435640"/>
          </a:xfrm>
        </p:grpSpPr>
        <p:grpSp>
          <p:nvGrpSpPr>
            <p:cNvPr id="399" name=""/>
            <p:cNvGrpSpPr/>
            <p:nvPr/>
          </p:nvGrpSpPr>
          <p:grpSpPr>
            <a:xfrm>
              <a:off x="31680" y="1422360"/>
              <a:ext cx="9115560" cy="5435640"/>
              <a:chOff x="31680" y="1422360"/>
              <a:chExt cx="9115560" cy="5435640"/>
            </a:xfrm>
          </p:grpSpPr>
          <p:sp>
            <p:nvSpPr>
              <p:cNvPr id="40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13" name=""/>
            <p:cNvGrpSpPr/>
            <p:nvPr/>
          </p:nvGrpSpPr>
          <p:grpSpPr>
            <a:xfrm>
              <a:off x="3600" y="3639960"/>
              <a:ext cx="2193840" cy="2694240"/>
              <a:chOff x="3600" y="3639960"/>
              <a:chExt cx="2193840" cy="2694240"/>
            </a:xfrm>
          </p:grpSpPr>
          <p:sp>
            <p:nvSpPr>
              <p:cNvPr id="41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5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8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4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50" name="PlaceHolder 2"/>
          <p:cNvSpPr>
            <a:spLocks noGrp="1"/>
          </p:cNvSpPr>
          <p:nvPr>
            <p:ph type="dt" idx="1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5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52" name="PlaceHolder 4"/>
          <p:cNvSpPr>
            <a:spLocks noGrp="1"/>
          </p:cNvSpPr>
          <p:nvPr>
            <p:ph type="sldNum" idx="1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C3D6-4B67-4CF8-851C-A38D671FDA2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89" name=""/>
          <p:cNvGrpSpPr/>
          <p:nvPr/>
        </p:nvGrpSpPr>
        <p:grpSpPr>
          <a:xfrm>
            <a:off x="3800520" y="1789200"/>
            <a:ext cx="5348160" cy="5056200"/>
            <a:chOff x="3800520" y="1789200"/>
            <a:chExt cx="5348160" cy="5056200"/>
          </a:xfrm>
        </p:grpSpPr>
        <p:sp>
          <p:nvSpPr>
            <p:cNvPr id="59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9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6"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27"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28"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2B6A-6917-48BD-A28F-9DC551309CA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65" name=""/>
          <p:cNvGrpSpPr/>
          <p:nvPr/>
        </p:nvGrpSpPr>
        <p:grpSpPr>
          <a:xfrm>
            <a:off x="3800520" y="1789200"/>
            <a:ext cx="5348160" cy="5056200"/>
            <a:chOff x="3800520" y="1789200"/>
            <a:chExt cx="5348160" cy="5056200"/>
          </a:xfrm>
        </p:grpSpPr>
        <p:sp>
          <p:nvSpPr>
            <p:cNvPr id="66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66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9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0"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01"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0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703"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8F97-8E3F-42A2-A7CB-4B58827CE75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40" name=""/>
          <p:cNvGrpSpPr/>
          <p:nvPr/>
        </p:nvGrpSpPr>
        <p:grpSpPr>
          <a:xfrm>
            <a:off x="0" y="2438280"/>
            <a:ext cx="9144000" cy="4046760"/>
            <a:chOff x="0" y="2438280"/>
            <a:chExt cx="9144000" cy="4046760"/>
          </a:xfrm>
        </p:grpSpPr>
        <p:sp>
          <p:nvSpPr>
            <p:cNvPr id="74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57"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59"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93A8-0E94-4535-BF9D-C816363EB95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6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06.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audio" Target="file:///tmp/home/.config/libreoffice/4/user/gallery/MSSN01081A0000%5B1%5D.wav" TargetMode="External"/><Relationship Id="rId2" Type="http://schemas.microsoft.com/office/2007/relationships/media" Target="file:///tmp/home/.config/libreoffice/4/user/gallery/MSSN01081A0000%5B1%5D.wav" TargetMode="External"/><Relationship Id="rId3" Type="http://schemas.openxmlformats.org/officeDocument/2006/relationships/image" Target="../media/image8.png"/><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12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00" name=""/>
          <p:cNvSpPr txBox="1"/>
          <p:nvPr/>
        </p:nvSpPr>
        <p:spPr>
          <a:xfrm>
            <a:off x="990720" y="6094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ELCOME PAREN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301" name=""/>
          <p:cNvSpPr txBox="1"/>
          <p:nvPr/>
        </p:nvSpPr>
        <p:spPr>
          <a:xfrm>
            <a:off x="2362320" y="3657600"/>
            <a:ext cx="44956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S. SHARKE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5TH GRADE SCIENCE,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ITERATURE,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D MATH</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1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imes New Roman"/>
              </a:rPr>
              <a:t>Classroom Policies</a:t>
            </a:r>
            <a:endParaRPr b="0" lang="en-US" sz="4400" spc="-1" strike="noStrike">
              <a:solidFill>
                <a:srgbClr val="ffffff"/>
              </a:solidFill>
              <a:latin typeface="Times New Roman"/>
            </a:endParaRPr>
          </a:p>
        </p:txBody>
      </p:sp>
      <p:sp>
        <p:nvSpPr>
          <p:cNvPr id="1327" name="PlaceHolder 2"/>
          <p:cNvSpPr>
            <a:spLocks noGrp="1"/>
          </p:cNvSpPr>
          <p:nvPr>
            <p:ph/>
          </p:nvPr>
        </p:nvSpPr>
        <p:spPr>
          <a:xfrm>
            <a:off x="533520" y="1828800"/>
            <a:ext cx="8153280" cy="26668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Arial"/>
              </a:rPr>
              <a:t>Class Notebook</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Arial"/>
              </a:rPr>
              <a:t>You are required to have a notebook and a folder for EVERY class.  </a:t>
            </a:r>
            <a:r>
              <a:rPr b="0" lang="en-US" sz="2700" spc="-1" strike="noStrike">
                <a:solidFill>
                  <a:srgbClr val="00ff00"/>
                </a:solidFill>
                <a:latin typeface="Arial"/>
              </a:rPr>
              <a:t>This will help you to study and to stay organized for the entire year.  Please have each item labeled with your name and subject.</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328" name="" descr=""/>
          <p:cNvPicPr/>
          <p:nvPr/>
        </p:nvPicPr>
        <p:blipFill>
          <a:blip r:embed="rId1"/>
          <a:stretch/>
        </p:blipFill>
        <p:spPr>
          <a:xfrm>
            <a:off x="5638680" y="4267080"/>
            <a:ext cx="1801800" cy="1548000"/>
          </a:xfrm>
          <a:prstGeom prst="rect">
            <a:avLst/>
          </a:prstGeom>
          <a:ln w="0">
            <a:noFill/>
          </a:ln>
        </p:spPr>
      </p:pic>
    </p:spTree>
  </p:cSld>
  <p:transition advTm="12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ssroom Policies</a:t>
            </a:r>
            <a:endParaRPr b="0" lang="en-US" sz="44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PASS US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You will need to fill out the pass portion of your planner in ink.  Do not interrupt and ask to use the pass when I am talking to the class or if a student is presenting or addressing the clas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Abuse of this privilege will result in limited use of the pas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31" name="" descr=""/>
          <p:cNvPicPr/>
          <p:nvPr/>
        </p:nvPicPr>
        <p:blipFill>
          <a:blip r:embed="rId1"/>
          <a:stretch/>
        </p:blipFill>
        <p:spPr>
          <a:xfrm>
            <a:off x="4267080" y="5486400"/>
            <a:ext cx="304920" cy="304920"/>
          </a:xfrm>
          <a:prstGeom prst="rect">
            <a:avLst/>
          </a:prstGeom>
          <a:ln w="0">
            <a:noFill/>
          </a:ln>
        </p:spPr>
      </p:pic>
      <p:pic>
        <p:nvPicPr>
          <p:cNvPr id="1332" name="" descr=""/>
          <p:cNvPicPr/>
          <p:nvPr/>
        </p:nvPicPr>
        <p:blipFill>
          <a:blip r:embed="rId2"/>
          <a:stretch/>
        </p:blipFill>
        <p:spPr>
          <a:xfrm>
            <a:off x="3352680" y="5105520"/>
            <a:ext cx="1600200" cy="1531800"/>
          </a:xfrm>
          <a:prstGeom prst="rect">
            <a:avLst/>
          </a:prstGeom>
          <a:ln w="0">
            <a:noFill/>
          </a:ln>
        </p:spPr>
      </p:pic>
      <p:pic>
        <p:nvPicPr>
          <p:cNvPr id="1333" name="" descr=""/>
          <p:cNvPicPr/>
          <p:nvPr/>
        </p:nvPicPr>
        <p:blipFill>
          <a:blip r:embed="rId3"/>
          <a:stretch/>
        </p:blipFill>
        <p:spPr>
          <a:xfrm>
            <a:off x="5715000" y="5105520"/>
            <a:ext cx="1523880" cy="1455480"/>
          </a:xfrm>
          <a:prstGeom prst="rect">
            <a:avLst/>
          </a:prstGeom>
          <a:ln w="0">
            <a:noFill/>
          </a:ln>
        </p:spPr>
      </p:pic>
    </p:spTree>
  </p:cSld>
  <p:transition advTm="12000">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898" fill="hold"/>
                                        <p:tgtEl>
                                          <p:spTgt spid="1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ahoma"/>
              </a:rPr>
              <a:t>Classroom Policies</a:t>
            </a:r>
            <a:endParaRPr b="0" lang="en-US" sz="4400" spc="-1" strike="noStrike">
              <a:solidFill>
                <a:srgbClr val="ffffcc"/>
              </a:solidFill>
              <a:latin typeface="Tahoma"/>
            </a:endParaRPr>
          </a:p>
        </p:txBody>
      </p:sp>
      <p:sp>
        <p:nvSpPr>
          <p:cNvPr id="13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ardy Polic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Students are expected to be in class and seated when the bell rings, otherwise they are considered tardy.  When the bell rings, students should have all materials out and be ready to work.</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36" name="" descr=""/>
          <p:cNvPicPr/>
          <p:nvPr/>
        </p:nvPicPr>
        <p:blipFill>
          <a:blip r:embed="rId1"/>
          <a:stretch/>
        </p:blipFill>
        <p:spPr>
          <a:xfrm>
            <a:off x="3733920" y="4876920"/>
            <a:ext cx="1447560" cy="1820880"/>
          </a:xfrm>
          <a:prstGeom prst="rect">
            <a:avLst/>
          </a:prstGeom>
          <a:ln w="0">
            <a:noFill/>
          </a:ln>
        </p:spPr>
      </p:pic>
    </p:spTree>
  </p:cSld>
  <p:transition advTm="1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7777"/>
                </a:solidFill>
                <a:latin typeface="Tahoma"/>
              </a:rPr>
              <a:t>Classroom Policies</a:t>
            </a:r>
            <a:endParaRPr b="0" lang="en-US" sz="4400" spc="-1" strike="noStrike">
              <a:solidFill>
                <a:srgbClr val="ffffcc"/>
              </a:solidFill>
              <a:latin typeface="Tahoma"/>
            </a:endParaRPr>
          </a:p>
        </p:txBody>
      </p:sp>
      <p:sp>
        <p:nvSpPr>
          <p:cNvPr id="13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Absenteeism Polic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Students have one day for each absence to turn work in.  </a:t>
            </a:r>
            <a:r>
              <a:rPr b="0" lang="en-US" sz="2000" spc="-1" strike="noStrike">
                <a:solidFill>
                  <a:srgbClr val="969696"/>
                </a:solidFill>
                <a:latin typeface="Tahoma"/>
              </a:rPr>
              <a:t>For example, if a student is absent on Tuesday and returns on Wednesday</a:t>
            </a:r>
            <a:r>
              <a:rPr b="1" lang="en-US" sz="2000" spc="-1" strike="noStrike">
                <a:solidFill>
                  <a:srgbClr val="969696"/>
                </a:solidFill>
                <a:latin typeface="Tahoma"/>
              </a:rPr>
              <a:t>, </a:t>
            </a:r>
            <a:r>
              <a:rPr b="0" lang="en-US" sz="2000" spc="-1" strike="noStrike">
                <a:solidFill>
                  <a:srgbClr val="969696"/>
                </a:solidFill>
                <a:latin typeface="Tahoma"/>
              </a:rPr>
              <a:t>Tuesday’s work is due on Thursday.  If a student misses Tuesday and Wednesday, then work for both of those days is due on the following Monda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If a student is absent on the day the assignment or project is due, the assignment is due the</a:t>
            </a:r>
            <a:r>
              <a:rPr b="1" lang="en-US" sz="2000" spc="-1" strike="noStrike">
                <a:solidFill>
                  <a:srgbClr val="969696"/>
                </a:solidFill>
                <a:latin typeface="Tahoma"/>
              </a:rPr>
              <a:t> first </a:t>
            </a:r>
            <a:r>
              <a:rPr b="0" lang="en-US" sz="2000" spc="-1" strike="noStrike">
                <a:solidFill>
                  <a:srgbClr val="969696"/>
                </a:solidFill>
                <a:latin typeface="Tahoma"/>
              </a:rPr>
              <a:t>day the student returns.  If the student is absent on test day, he/she is responsible for taking the test the day that he/she returns.  </a:t>
            </a:r>
            <a:r>
              <a:rPr b="1" lang="en-US" sz="2000" spc="-1" strike="noStrike">
                <a:solidFill>
                  <a:srgbClr val="969696"/>
                </a:solidFill>
                <a:latin typeface="Tahoma"/>
              </a:rPr>
              <a:t>It is the student’s responsibility to see me about taking the te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Not all work can be made up.</a:t>
            </a:r>
            <a:r>
              <a:rPr b="0" lang="en-US" sz="2000" spc="-1" strike="noStrike">
                <a:solidFill>
                  <a:srgbClr val="969696"/>
                </a:solidFill>
                <a:latin typeface="Tahoma"/>
              </a:rPr>
              <a:t> Sometimes we watch videos in class, conduct lab investigations, hold class discussions and students are given credit for these activities.  If a student misses class, they may not be able to make up the assignment.  </a:t>
            </a:r>
            <a:r>
              <a:rPr b="1" lang="en-US" sz="2000" spc="-1" strike="noStrike">
                <a:solidFill>
                  <a:srgbClr val="969696"/>
                </a:solidFill>
                <a:latin typeface="Tahoma"/>
              </a:rPr>
              <a:t>It is the responsibility of the student to collect all missed wor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9" name="" descr=""/>
          <p:cNvPicPr/>
          <p:nvPr/>
        </p:nvPicPr>
        <p:blipFill>
          <a:blip r:embed="rId1"/>
          <a:stretch/>
        </p:blipFill>
        <p:spPr>
          <a:xfrm>
            <a:off x="609480" y="228600"/>
            <a:ext cx="1447920" cy="1219320"/>
          </a:xfrm>
          <a:prstGeom prst="rect">
            <a:avLst/>
          </a:prstGeom>
          <a:ln w="0">
            <a:noFill/>
          </a:ln>
        </p:spPr>
      </p:pic>
      <p:pic>
        <p:nvPicPr>
          <p:cNvPr id="1340" name="" descr=""/>
          <p:cNvPicPr/>
          <p:nvPr/>
        </p:nvPicPr>
        <p:blipFill>
          <a:blip r:embed="rId2"/>
          <a:stretch/>
        </p:blipFill>
        <p:spPr>
          <a:xfrm>
            <a:off x="6934320" y="228600"/>
            <a:ext cx="1447560" cy="1219320"/>
          </a:xfrm>
          <a:prstGeom prst="rect">
            <a:avLst/>
          </a:prstGeom>
          <a:ln w="0">
            <a:noFill/>
          </a:ln>
        </p:spPr>
      </p:pic>
    </p:spTree>
  </p:cSld>
  <p:transition advTm="12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assroom Policies</a:t>
            </a:r>
            <a:endParaRPr b="0" lang="en-US" sz="4400" spc="-1" strike="noStrike">
              <a:solidFill>
                <a:srgbClr val="b7e7ff"/>
              </a:solidFill>
              <a:latin typeface="Arial"/>
            </a:endParaRPr>
          </a:p>
        </p:txBody>
      </p:sp>
      <p:sp>
        <p:nvSpPr>
          <p:cNvPr id="13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ademic Integrit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ating is not tolerated at ATA. Students who choose to cheat may expect a variety of consequences, including, but not limited to, loss of grade, suspension, or loss of privilege. Consequences will be at my discretion and will be discussed with the student, parent(s), and administrators.</a:t>
            </a:r>
            <a:endParaRPr b="0" lang="en-US" sz="3200" spc="-1" strike="noStrike">
              <a:solidFill>
                <a:srgbClr val="ffffff"/>
              </a:solidFill>
              <a:latin typeface="Arial"/>
            </a:endParaRPr>
          </a:p>
        </p:txBody>
      </p:sp>
    </p:spTree>
  </p:cSld>
  <p:transition advTm="12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endParaRPr b="0" lang="en-US" sz="4400" spc="-1" strike="noStrike">
              <a:solidFill>
                <a:srgbClr val="b7e7ff"/>
              </a:solidFill>
              <a:latin typeface="Arial"/>
            </a:endParaRPr>
          </a:p>
        </p:txBody>
      </p:sp>
      <p:sp>
        <p:nvSpPr>
          <p:cNvPr id="13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oking Forward To A Very Successful And Rewarding Yea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any questions or would like to learn more you can visit our class websit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ssharkey.wikispaces.com</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1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y Background</a:t>
            </a:r>
            <a:endParaRPr b="1" lang="en-US" sz="4400" spc="-1" strike="noStrike">
              <a:solidFill>
                <a:srgbClr val="feec94"/>
              </a:solidFill>
              <a:latin typeface="Times New Roman"/>
            </a:endParaRPr>
          </a:p>
        </p:txBody>
      </p:sp>
      <p:sp>
        <p:nvSpPr>
          <p:cNvPr id="1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Year Teacher As Part Of The ATA Family</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uate Of University Of Michigan-Dearborn</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uate Of Henry Ford Community College</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attending Wayne State University’s Master’s Program </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Elementary Education</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or-Science &amp; Social Studies  </a:t>
            </a:r>
            <a:endParaRPr b="0" lang="en-US" sz="3200" spc="-1" strike="noStrike">
              <a:solidFill>
                <a:srgbClr val="ffffff"/>
              </a:solidFill>
              <a:latin typeface="Times New Roman"/>
            </a:endParaRPr>
          </a:p>
        </p:txBody>
      </p:sp>
      <p:pic>
        <p:nvPicPr>
          <p:cNvPr id="1304" name="" descr=""/>
          <p:cNvPicPr/>
          <p:nvPr/>
        </p:nvPicPr>
        <p:blipFill>
          <a:blip r:embed="rId1"/>
          <a:stretch/>
        </p:blipFill>
        <p:spPr>
          <a:xfrm>
            <a:off x="6019920" y="4419720"/>
            <a:ext cx="2971800" cy="2073240"/>
          </a:xfrm>
          <a:prstGeom prst="rect">
            <a:avLst/>
          </a:prstGeom>
          <a:ln w="0">
            <a:noFill/>
          </a:ln>
        </p:spPr>
      </p:pic>
    </p:spTree>
  </p:cSld>
  <p:transition advTm="1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Classroom Procedures</a:t>
            </a:r>
            <a:endParaRPr b="0" lang="en-US" sz="4400" spc="-1" strike="noStrike">
              <a:solidFill>
                <a:srgbClr val="ffffcc"/>
              </a:solidFill>
              <a:latin typeface="Tahoma"/>
            </a:endParaRPr>
          </a:p>
        </p:txBody>
      </p:sp>
      <p:sp>
        <p:nvSpPr>
          <p:cNvPr id="1306" name="PlaceHolder 2"/>
          <p:cNvSpPr>
            <a:spLocks noGrp="1"/>
          </p:cNvSpPr>
          <p:nvPr>
            <p:ph/>
          </p:nvPr>
        </p:nvSpPr>
        <p:spPr>
          <a:xfrm>
            <a:off x="301320" y="1599840"/>
            <a:ext cx="8080200" cy="3048120"/>
          </a:xfrm>
          <a:prstGeom prst="rect">
            <a:avLst/>
          </a:prstGeom>
          <a:noFill/>
          <a:ln w="0">
            <a:noFill/>
          </a:ln>
        </p:spPr>
        <p:txBody>
          <a:bodyPr lIns="90000" rIns="90000" tIns="46800" bIns="46800" anchor="t">
            <a:normAutofit/>
          </a:bodyPr>
          <a:p>
            <a:pPr marL="609480" indent="-60948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Entering the classroom: </a:t>
            </a:r>
            <a:endParaRPr b="0" lang="en-US" sz="28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Quietly turn in your homework folder</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Go directly to your seat</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Begin the opening activity</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Wait for teacher instruction</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Follow all REACH values (Respect, Enthusiasm, Achievement, Citizenship, &amp; Hard Work)</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07" name="" descr=""/>
          <p:cNvPicPr/>
          <p:nvPr/>
        </p:nvPicPr>
        <p:blipFill>
          <a:blip r:embed="rId1"/>
          <a:stretch/>
        </p:blipFill>
        <p:spPr>
          <a:xfrm>
            <a:off x="2819520" y="4648320"/>
            <a:ext cx="3352680" cy="2057400"/>
          </a:xfrm>
          <a:prstGeom prst="rect">
            <a:avLst/>
          </a:prstGeom>
          <a:ln w="0">
            <a:noFill/>
          </a:ln>
        </p:spPr>
      </p:pic>
    </p:spTree>
  </p:cSld>
  <p:transition advTm="12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ssroom Procedures</a:t>
            </a:r>
            <a:endParaRPr b="0" lang="en-US" sz="4400" spc="-1" strike="noStrike">
              <a:solidFill>
                <a:srgbClr val="ffffcc"/>
              </a:solidFill>
              <a:latin typeface="Tahoma"/>
            </a:endParaRPr>
          </a:p>
        </p:txBody>
      </p:sp>
      <p:sp>
        <p:nvSpPr>
          <p:cNvPr id="1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ismissal at the end of the period:</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ven if you hear a bell, stay in your seat until you are dismissed by the teacher.</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Leave quietly and in an orderly manner.</a:t>
            </a:r>
            <a:endParaRPr b="0" lang="en-US" sz="3200" spc="-1" strike="noStrike">
              <a:solidFill>
                <a:srgbClr val="ffffff"/>
              </a:solidFill>
              <a:latin typeface="Tahoma"/>
            </a:endParaRPr>
          </a:p>
        </p:txBody>
      </p:sp>
      <p:pic>
        <p:nvPicPr>
          <p:cNvPr id="1310" name="" descr="">
            <a:hlinkClick r:id="" action="ppaction://media"/>
          </p:cNvPr>
          <p:cNvPicPr/>
          <p:nvPr>
            <a:audioFile r:link="rId1"/>
            <p:extLst>
              <p:ext uri="{DAA4B4D4-6D71-4841-9C94-3DE7FCFB9230}">
                <p14:media r:link="rId2"/>
              </p:ext>
            </p:extLst>
          </p:nvPr>
        </p:nvPicPr>
        <p:blipFill>
          <a:blip r:embed="rId3"/>
          <a:stretch>
            <a:fillRect/>
          </a:stretch>
        </p:blipFill>
        <p:spPr>
          <a:xfrm>
            <a:off x="2819520" y="3886200"/>
            <a:ext cx="3962160" cy="2590920"/>
          </a:xfrm>
          <a:prstGeom prst="rect">
            <a:avLst/>
          </a:prstGeom>
          <a:ln w="0">
            <a:noFill/>
          </a:ln>
        </p:spPr>
      </p:pic>
    </p:spTree>
  </p:cSld>
  <p:transition advTm="12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307" fill="hold"/>
                                        <p:tgtEl>
                                          <p:spTgt spid="13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10"/>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assroom Procedures</a:t>
            </a:r>
            <a:endParaRPr b="0" lang="en-US" sz="4400" spc="-1" strike="noStrike">
              <a:solidFill>
                <a:srgbClr val="dbbd71"/>
              </a:solidFill>
              <a:latin typeface="Arial"/>
            </a:endParaRPr>
          </a:p>
        </p:txBody>
      </p:sp>
      <p:sp>
        <p:nvSpPr>
          <p:cNvPr id="1312" name="PlaceHolder 2"/>
          <p:cNvSpPr>
            <a:spLocks noGrp="1"/>
          </p:cNvSpPr>
          <p:nvPr>
            <p:ph/>
          </p:nvPr>
        </p:nvSpPr>
        <p:spPr>
          <a:xfrm>
            <a:off x="456840" y="1600200"/>
            <a:ext cx="8001000" cy="4114800"/>
          </a:xfrm>
          <a:prstGeom prst="rect">
            <a:avLst/>
          </a:prstGeom>
          <a:noFill/>
          <a:ln w="0">
            <a:noFill/>
          </a:ln>
        </p:spPr>
        <p:txBody>
          <a:bodyPr lIns="90000" rIns="90000" tIns="46800" bIns="46800" anchor="t">
            <a:normAutofit/>
          </a:bodyPr>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tting students attention:</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acher says “Give me 5, can I have your eyes and ears, or  ladies and gentlemen, may I have your attention please?” students will:</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mediately stop what they are doing and look at the teacher</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lently wait for teacher instruction.</a:t>
            </a:r>
            <a:endParaRPr b="0" lang="en-US" sz="2800" spc="-1" strike="noStrike">
              <a:solidFill>
                <a:srgbClr val="ffffff"/>
              </a:solidFill>
              <a:latin typeface="Tahoma"/>
            </a:endParaRPr>
          </a:p>
        </p:txBody>
      </p:sp>
      <p:pic>
        <p:nvPicPr>
          <p:cNvPr id="1313" name="" descr=""/>
          <p:cNvPicPr/>
          <p:nvPr/>
        </p:nvPicPr>
        <p:blipFill>
          <a:blip r:embed="rId1"/>
          <a:stretch/>
        </p:blipFill>
        <p:spPr>
          <a:xfrm>
            <a:off x="6858000" y="4876920"/>
            <a:ext cx="1817640" cy="1734840"/>
          </a:xfrm>
          <a:prstGeom prst="rect">
            <a:avLst/>
          </a:prstGeom>
          <a:ln w="0">
            <a:noFill/>
          </a:ln>
        </p:spPr>
      </p:pic>
    </p:spTree>
  </p:cSld>
  <p:transition advTm="12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Garamond"/>
              </a:rPr>
              <a:t>Hallway Procedure</a:t>
            </a:r>
            <a:endParaRPr b="1" lang="en-US" sz="4400" spc="-1" strike="noStrike">
              <a:solidFill>
                <a:srgbClr val="b9efee"/>
              </a:solidFill>
              <a:latin typeface="Garamond"/>
            </a:endParaRPr>
          </a:p>
        </p:txBody>
      </p:sp>
      <p:sp>
        <p:nvSpPr>
          <p:cNvPr id="1315"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fontScale="92000"/>
          </a:bodyPr>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are required to walk through the hallways in a respectful manner that is both safe and efficient. </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will:</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ne up in a single-file line at the classroom door as directed by the teacher</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e forward in line</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alk silently on the </a:t>
            </a:r>
            <a:r>
              <a:rPr b="1" lang="en-US" sz="2400" spc="-1" strike="noStrike">
                <a:solidFill>
                  <a:srgbClr val="ffffff"/>
                </a:solidFill>
                <a:latin typeface="Garamond"/>
              </a:rPr>
              <a:t>right</a:t>
            </a:r>
            <a:r>
              <a:rPr b="0" lang="en-US" sz="2400" spc="-1" strike="noStrike">
                <a:solidFill>
                  <a:srgbClr val="ffffff"/>
                </a:solidFill>
                <a:latin typeface="Garamond"/>
              </a:rPr>
              <a:t> side of the hallway to the destination </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eep hands and feet to themselves</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ure all books and/or supplies in hands in front or on sides</a:t>
            </a:r>
            <a:endParaRPr b="0" lang="en-US" sz="2400" spc="-1" strike="noStrike">
              <a:solidFill>
                <a:srgbClr val="ffffff"/>
              </a:solidFill>
              <a:latin typeface="Garamond"/>
            </a:endParaRPr>
          </a:p>
        </p:txBody>
      </p:sp>
      <p:pic>
        <p:nvPicPr>
          <p:cNvPr id="1316" name="" descr=""/>
          <p:cNvPicPr/>
          <p:nvPr/>
        </p:nvPicPr>
        <p:blipFill>
          <a:blip r:embed="rId2"/>
          <a:stretch/>
        </p:blipFill>
        <p:spPr>
          <a:xfrm>
            <a:off x="2438280" y="4952880"/>
            <a:ext cx="4206960" cy="1905120"/>
          </a:xfrm>
          <a:prstGeom prst="rect">
            <a:avLst/>
          </a:prstGeom>
          <a:ln w="0">
            <a:noFill/>
          </a:ln>
        </p:spPr>
      </p:pic>
    </p:spTree>
  </p:cSld>
  <p:transition advTm="12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lassroom Procedures</a:t>
            </a:r>
            <a:endParaRPr b="0" lang="en-US" sz="4400" spc="-1" strike="noStrike">
              <a:solidFill>
                <a:srgbClr val="ffffff"/>
              </a:solidFill>
              <a:latin typeface="Arial"/>
            </a:endParaRPr>
          </a:p>
        </p:txBody>
      </p:sp>
      <p:sp>
        <p:nvSpPr>
          <p:cNvPr id="1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Early Finisher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en you finish an assignment or test early, please follow these instructions:</a:t>
            </a:r>
            <a:endParaRPr b="0" lang="en-US" sz="3200" spc="-1" strike="noStrike">
              <a:solidFill>
                <a:srgbClr val="ffffff"/>
              </a:solidFill>
              <a:latin typeface="Arial"/>
            </a:endParaRPr>
          </a:p>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Quietly place your work into the correct tray</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or visit the approved student websites</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ilently sit at your desk unti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    </a:t>
            </a:r>
            <a:r>
              <a:rPr b="0" lang="en-US" sz="3200" spc="-1" strike="noStrike">
                <a:solidFill>
                  <a:srgbClr val="3366ff"/>
                </a:solidFill>
                <a:latin typeface="Arial"/>
              </a:rPr>
              <a:t>everyone is finished</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9" name="" descr=""/>
          <p:cNvPicPr/>
          <p:nvPr/>
        </p:nvPicPr>
        <p:blipFill>
          <a:blip r:embed="rId4"/>
          <a:stretch/>
        </p:blipFill>
        <p:spPr>
          <a:xfrm>
            <a:off x="6324480" y="4648320"/>
            <a:ext cx="2590920" cy="1904760"/>
          </a:xfrm>
          <a:prstGeom prst="rect">
            <a:avLst/>
          </a:prstGeom>
          <a:ln w="0">
            <a:noFill/>
          </a:ln>
        </p:spPr>
      </p:pic>
    </p:spTree>
  </p:cSld>
  <p:transition advTm="12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imes New Roman"/>
              </a:rPr>
              <a:t>Classroom Procedures</a:t>
            </a:r>
            <a:endParaRPr b="0" lang="en-US" sz="4400" spc="-1" strike="noStrike">
              <a:solidFill>
                <a:srgbClr val="ffffff"/>
              </a:solidFill>
              <a:latin typeface="Times New Roman"/>
            </a:endParaRPr>
          </a:p>
        </p:txBody>
      </p:sp>
      <p:sp>
        <p:nvSpPr>
          <p:cNvPr id="13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00"/>
                </a:solidFill>
                <a:latin typeface="Arial"/>
              </a:rPr>
              <a:t>Finding work after being absen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Look at the weekly planner</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and find the day (s)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you were absen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Write the assignment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in your planner and collect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any work that may go with i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You have one day for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every absence to finish the work.</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After completing, return the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work to the absent tray.</a:t>
            </a:r>
            <a:endParaRPr b="0" lang="en-US" sz="2300" spc="-1" strike="noStrike">
              <a:solidFill>
                <a:srgbClr val="ffffff"/>
              </a:solidFill>
              <a:latin typeface="Arial"/>
            </a:endParaRPr>
          </a:p>
        </p:txBody>
      </p:sp>
      <p:pic>
        <p:nvPicPr>
          <p:cNvPr id="1322" name="" descr=""/>
          <p:cNvPicPr/>
          <p:nvPr/>
        </p:nvPicPr>
        <p:blipFill>
          <a:blip r:embed="rId1"/>
          <a:stretch/>
        </p:blipFill>
        <p:spPr>
          <a:xfrm>
            <a:off x="5562720" y="2133720"/>
            <a:ext cx="3276360" cy="2819160"/>
          </a:xfrm>
          <a:prstGeom prst="rect">
            <a:avLst/>
          </a:prstGeom>
          <a:ln w="0">
            <a:noFill/>
          </a:ln>
        </p:spPr>
      </p:pic>
    </p:spTree>
  </p:cSld>
  <p:transition advTm="12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Procedures</a:t>
            </a:r>
            <a:endParaRPr b="0" lang="en-US" sz="4400" spc="-1" strike="noStrike">
              <a:solidFill>
                <a:srgbClr val="ffffcc"/>
              </a:solidFill>
              <a:latin typeface="Arial"/>
            </a:endParaRPr>
          </a:p>
        </p:txBody>
      </p:sp>
      <p:sp>
        <p:nvSpPr>
          <p:cNvPr id="1324" name="PlaceHolder 2"/>
          <p:cNvSpPr>
            <a:spLocks noGrp="1"/>
          </p:cNvSpPr>
          <p:nvPr>
            <p:ph/>
          </p:nvPr>
        </p:nvSpPr>
        <p:spPr>
          <a:xfrm>
            <a:off x="380880" y="1523880"/>
            <a:ext cx="8229600" cy="3657600"/>
          </a:xfrm>
          <a:prstGeom prst="rect">
            <a:avLst/>
          </a:prstGeom>
          <a:noFill/>
          <a:ln w="0">
            <a:noFill/>
          </a:ln>
        </p:spPr>
        <p:txBody>
          <a:bodyPr lIns="90000" rIns="90000" tIns="46800" bIns="46800" anchor="t">
            <a:normAutofit/>
          </a:bodyPr>
          <a:p>
            <a:pPr marL="5904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aeaea"/>
                </a:solidFill>
                <a:latin typeface="Verdana"/>
              </a:rPr>
              <a:t>Making poor choices:</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1st time—Verbal Warning</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2nd time—Loss of Recess</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3rd time—Conference with Student</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4th time—Parent Contact and Possible Removal From Classroom</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5th time---Parent / Student Conference</a:t>
            </a:r>
            <a:endParaRPr b="0" lang="en-US" sz="2900" spc="-1" strike="noStrike">
              <a:solidFill>
                <a:srgbClr val="eaeaea"/>
              </a:solidFill>
              <a:latin typeface="Verdana"/>
            </a:endParaRPr>
          </a:p>
        </p:txBody>
      </p:sp>
      <p:pic>
        <p:nvPicPr>
          <p:cNvPr id="1325" name="" descr=""/>
          <p:cNvPicPr/>
          <p:nvPr/>
        </p:nvPicPr>
        <p:blipFill>
          <a:blip r:embed="rId1"/>
          <a:stretch/>
        </p:blipFill>
        <p:spPr>
          <a:xfrm>
            <a:off x="3200400" y="5105520"/>
            <a:ext cx="2819520" cy="1752480"/>
          </a:xfrm>
          <a:prstGeom prst="rect">
            <a:avLst/>
          </a:prstGeom>
          <a:ln w="0">
            <a:noFill/>
          </a:ln>
        </p:spPr>
      </p:pic>
    </p:spTree>
  </p:cSld>
  <p:transition advTm="12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20:43:58Z</dcterms:created>
  <dc:creator>Stephanie Green</dc:creator>
  <dc:description/>
  <dc:language>en-US</dc:language>
  <cp:lastModifiedBy>a</cp:lastModifiedBy>
  <dcterms:modified xsi:type="dcterms:W3CDTF">2009-09-02T17:43:08Z</dcterms:modified>
  <cp:revision>8</cp:revision>
  <dc:subject/>
  <dc:title>                         </dc:title>
</cp:coreProperties>
</file>