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C4C-8087-4BEF-804F-DDF9B117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210-A0A7-475C-B42D-014F3B25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E4D-FC2F-4E1F-A889-9C7B81E8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71D-38AA-4B0D-93F5-42F88500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9A33-1497-4E32-A4D2-FF74A754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B8C5-C643-454F-B705-C7CC0CC7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DBA4-4319-43A8-9D57-84C94A79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1814-56D5-492E-969C-EA30FA71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5208-DA3C-49A1-BFF4-E956CFCB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664B-F042-43B9-AD79-2FBB35CE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6D59-15E8-49C2-BB35-5892E4ED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A9C-9303-4AA6-85C0-21268FF5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98CC-9960-4732-903C-4EF6801D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D4C3-A1C3-4B4B-AA82-6A33843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2B57-4584-4270-8EF8-0044FD7D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0EE5-7B49-4226-9430-784A875F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C431-DF71-4414-91BF-66E31B52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8D6-FE65-4EB6-B856-51F31C0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CE8-6B83-410D-84D7-D01B699C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252-FBA0-41F0-86B4-2F752461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403-AB2C-4652-AF00-0F96AC69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F33-A075-4735-9F14-1E68443A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4A3-AFAF-4E16-8503-7C44B576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4F1-780A-47E0-A927-FACD9A27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30A3-A515-482A-8913-69639E543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6128-BEFD-40B3-90C1-75A115686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esa Shar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24,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00680" cy="2527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34240" y="0"/>
            <a:ext cx="3209760" cy="2274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4857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400800" y="4932360"/>
            <a:ext cx="27432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o scientists classify mamma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covering is hair or f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take care of yo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s produce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blo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bi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bies look like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985000" y="28195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s of Mamm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981760" y="5113440"/>
            <a:ext cx="3162240" cy="1744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539400" y="46846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wn B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514680" cy="2314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73200" y="19414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er Wh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002360" y="1676520"/>
            <a:ext cx="2141640" cy="2909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770160" y="117936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tralian Shephe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809880" y="1676520"/>
            <a:ext cx="2459160" cy="3352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72520" y="1255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Ti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04920" y="4489560"/>
            <a:ext cx="2400120" cy="2368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805840" y="5522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Cycle of the Mamm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zed E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les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2857680" cy="3038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2960640"/>
            <a:ext cx="4495680" cy="3897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343400" y="2927520"/>
            <a:ext cx="4800600" cy="3930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162240" cy="3062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124080" y="1219320"/>
            <a:ext cx="297180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sharkey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Foresman Science Grade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229440" y="3943440"/>
            <a:ext cx="29145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27:46Z</dcterms:created>
  <dc:creator>tsharkey</dc:creator>
  <dc:description/>
  <dc:language>en-US</dc:language>
  <cp:lastModifiedBy>tsharkey</cp:lastModifiedBy>
  <dcterms:modified xsi:type="dcterms:W3CDTF">2010-09-24T12:54:27Z</dcterms:modified>
  <cp:revision>8</cp:revision>
  <dc:subject/>
  <dc:title>Mammals</dc:title>
</cp:coreProperties>
</file>