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4ED-2F5D-4E57-AECD-C879B9FA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39D-3AEB-4628-8EAA-BC8CCCAE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D65-1FB8-4305-B5FC-E12745F4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EEF6-1FD1-4018-8878-73C50E55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C49A-D0BA-4580-8F57-33C1866A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A34A-3C74-472A-A599-758ACCA2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E809-A6A9-4B49-BF8D-1EDBC5EA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45C6-7564-45F7-AB2D-8963E098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42A2-CE4F-47B7-8717-D0551822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5D2D-3FCA-481C-B742-F4F9A8B8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A032-3332-48BC-9498-23A41307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65ED-3531-467B-B744-29F140DB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6BF6-30C6-4248-991B-FCD13CFA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49B0-FB49-4009-B931-15B6F5D7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971D-E9DC-4B1A-9ABA-1E356BCE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5DDF-5F06-49B4-B956-6284B0B0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AF7E-85A9-42C6-99EB-501937BD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EE40-43F3-4D5F-A042-42F85C89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B7D3-9416-4337-BAE9-50FF84D4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8CB-82F5-44B7-A258-50B0998A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86B-3432-4CC8-A023-DF0D7CDC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0E78-2AFD-4728-A0C5-68260914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283-5536-4063-96BE-26C360A0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1CF-B1E6-483F-8F8E-775F766B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11C9-48B5-457B-B86C-9766C05C4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D115-5E8F-4B62-B6A7-AA13C87D6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mm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esa Shar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 24,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00680" cy="2527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934240" y="0"/>
            <a:ext cx="3209760" cy="2274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4857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400800" y="4932360"/>
            <a:ext cx="27432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do scientists classify mamma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covering is hair or f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 take care of yo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s produce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bloo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bi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bies look like par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985000" y="2819520"/>
            <a:ext cx="315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s of Mamm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981760" y="5113440"/>
            <a:ext cx="3162240" cy="1744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539400" y="46846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own B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3514680" cy="2314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73200" y="19414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ller Wh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002360" y="1676520"/>
            <a:ext cx="2141640" cy="2909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770160" y="117936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stralian Shephe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3809880" y="1676520"/>
            <a:ext cx="2459160" cy="3352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872520" y="12556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Ti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304920" y="4489560"/>
            <a:ext cx="2400120" cy="23684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805840" y="55227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m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fe Cycle of the Mamm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ized Eg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oles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2857680" cy="3038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2960640"/>
            <a:ext cx="4495680" cy="3897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343400" y="2927520"/>
            <a:ext cx="4800600" cy="39304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162240" cy="3062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3124080" y="1219320"/>
            <a:ext cx="297180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sharkey.wikispac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tt Foresman Science Grade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229440" y="3943440"/>
            <a:ext cx="29145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2:27:46Z</dcterms:created>
  <dc:creator>tsharkey</dc:creator>
  <dc:description/>
  <dc:language>en-US</dc:language>
  <cp:lastModifiedBy>tsharkey</cp:lastModifiedBy>
  <dcterms:modified xsi:type="dcterms:W3CDTF">2010-09-24T12:54:27Z</dcterms:modified>
  <cp:revision>8</cp:revision>
  <dc:subject/>
  <dc:title>Mammals</dc:title>
</cp:coreProperties>
</file>