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8C9-87DF-4987-91C8-64A86D86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BE7-5763-41A9-AC28-891BE6A6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56E-7CCD-419B-B2B1-02E6BBA4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B3E-8FA4-45B3-A35E-0CAB20FA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431-1686-4127-86C9-897F979F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487-51C8-42EE-BDD7-C3B089B8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A9CF-3D2B-478C-9AFF-6F90525A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452-8837-4DCB-926C-8EC9E2F7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F1F-1D8C-455C-A873-089C2A6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C8B-3A5B-4012-AD12-1871B98F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3F4E-B8C9-470F-8573-EC6D5BC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851-71E0-4552-AF2B-083F153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9A79-F365-41BD-AF92-35B6AE4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FD48-5DD2-43B5-A9B4-F22D459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00E8-D591-4C32-AAF5-D6CB654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A1F9-6329-4C54-B66B-9DD1C7FD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36CF-3892-4B76-8D7B-CDFB48C5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565-15A6-45A3-B4F8-327C10A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672-0122-4D42-8DD4-7157000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5B4-1D3D-4DC1-B06E-4118F1AB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08A-4C83-4F33-8C96-A146E5A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F96-3CCA-441D-8396-F73074E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AD1-6D35-4D25-AEF3-1805EF6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090-CD28-41FE-87B0-08F24D3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F29-6E97-4383-B2DE-74E9B6B8C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F56-8E80-438D-B201-2C96A9719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esa Shar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4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00680" cy="2527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34240" y="0"/>
            <a:ext cx="3209760" cy="227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400800" y="4932360"/>
            <a:ext cx="27432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scientists classify mamma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covering is hair or 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take care of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s produce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ies look like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85000" y="28195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 of Mamm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81760" y="5113440"/>
            <a:ext cx="3162240" cy="1744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39400" y="4684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n 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14680" cy="231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3200" y="19414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r Wh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002360" y="1676520"/>
            <a:ext cx="2141640" cy="29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770160" y="1179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n Shephe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809880" y="1676520"/>
            <a:ext cx="2459160" cy="3352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72520" y="1255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Ti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489560"/>
            <a:ext cx="2400120" cy="2368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05840" y="5522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Cycle of the Mamm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ed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3038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2960640"/>
            <a:ext cx="4495680" cy="3897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343400" y="2927520"/>
            <a:ext cx="4800600" cy="3930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062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9718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sharkey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Foresman Science Grade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229440" y="394344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27:46Z</dcterms:created>
  <dc:creator>tsharkey</dc:creator>
  <dc:description/>
  <dc:language>en-US</dc:language>
  <cp:lastModifiedBy>tsharkey</cp:lastModifiedBy>
  <dcterms:modified xsi:type="dcterms:W3CDTF">2010-09-24T12:54:27Z</dcterms:modified>
  <cp:revision>8</cp:revision>
  <dc:subject/>
  <dc:title>Mammals</dc:title>
</cp:coreProperties>
</file>