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24A-C613-430E-928C-4AEBE3FE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9662-2273-4EDD-9FA4-59169853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A09-6983-44B7-9C4E-0222F069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CE7-B02C-413A-AF41-6518692A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BFDE-3946-4C67-97EE-A063C00A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46F8-3DC0-43F2-9C92-5CF89F72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2CB6-3846-4955-8B94-2A787260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0726-E0C4-43FD-BE9B-28CF1A29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D882-F699-493D-897B-5748FA11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9F1D-880B-421C-8B49-9E407E01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F549-7806-4C70-A9FA-D96FF096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8B2-5510-496E-9460-388D7B0E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832E-4109-42AD-84CC-4BBA5E30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7BDA-2E06-437F-B158-5959A259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9AB7-C7A2-4A22-8E07-C5007C1A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244A-83DB-4B98-B7C5-68641837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EE34-FB5B-4B51-8341-2E60F300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B22-F924-45E8-810D-C14079E0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B9D-7F58-444A-9C4E-6FF065F0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ACB-14A9-493D-AAC5-B546385D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7A1-8294-4DD4-9B88-E12A3523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F59-7573-4472-9130-BCCA3E39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C5C-82B4-4235-BD4D-A35BD05F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D95-E001-423D-8144-57D1B2F1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8970-EE92-4418-84BC-EB3ABC2EF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EA31-CBA0-4C4C-ADCD-9E8FED51A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esa Shar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24,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00680" cy="2527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34240" y="0"/>
            <a:ext cx="3209760" cy="2274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4857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400800" y="4932360"/>
            <a:ext cx="27432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do scientists classify mamma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covering is hair or f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take care of yo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s produce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blo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bi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bies look like 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985000" y="28195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s of Mamm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981760" y="5113440"/>
            <a:ext cx="3162240" cy="1744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539400" y="46846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wn B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514680" cy="2314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73200" y="19414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er Wh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002360" y="1676520"/>
            <a:ext cx="2141640" cy="2909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770160" y="117936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tralian Shephe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809880" y="1676520"/>
            <a:ext cx="2459160" cy="3352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72520" y="1255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Ti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04920" y="4489560"/>
            <a:ext cx="2400120" cy="2368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805840" y="5522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m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Cycle of the Mamm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zed Eg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les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2857680" cy="3038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2960640"/>
            <a:ext cx="4495680" cy="3897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343400" y="2927520"/>
            <a:ext cx="4800600" cy="39304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162240" cy="3062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3124080" y="1219320"/>
            <a:ext cx="297180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sharkey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Foresman Science Grade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229440" y="3943440"/>
            <a:ext cx="29145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27:46Z</dcterms:created>
  <dc:creator>tsharkey</dc:creator>
  <dc:description/>
  <dc:language>en-US</dc:language>
  <cp:lastModifiedBy>tsharkey</cp:lastModifiedBy>
  <dcterms:modified xsi:type="dcterms:W3CDTF">2010-09-24T12:54:27Z</dcterms:modified>
  <cp:revision>8</cp:revision>
  <dc:subject/>
  <dc:title>Mammals</dc:title>
</cp:coreProperties>
</file>