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F428-68AF-4B8F-922A-3E2E9F3A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9EBC-89F5-4C57-B58F-8448F7C1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EBA7-51CE-4D4B-8621-D14D9ED04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2BC5-5407-43C6-B150-EA6B0307A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2E4D-FF54-4801-B864-157696E5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BF62-C7F5-4AEA-AED8-2B1706BD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13FD-24D6-4184-BBB6-C62B74A5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E575-D219-4131-9157-BC682C9F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67C0-7024-4850-932D-3AF2CD40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7967-15FA-4360-A118-87171FB4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966C-1EFC-4B66-B49F-928E75A4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30EC-738B-43C7-B940-EA7DADD0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7730-A96E-4AA0-A675-B85ECE66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3607-4F92-413E-96F3-83CF5232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D16A-60B8-4EC2-9F08-759E56C7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A880-3254-470A-8F5F-E123CBA04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1FC0-F584-4A59-9586-E0D23675C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258F7-FB7D-4218-9F00-5FAAB8E2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50EDD-CE4B-4BA8-B515-92229AC2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AD0C5-271A-456B-801B-26213D10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5D694-443C-425B-924E-62AFCFD8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A4E1D-99C9-4EE3-B34B-FB02236D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8219-22C1-4667-A4FD-CCB44431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3A230-3E0F-4485-B487-EAF721D1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C7D74-D9D5-4193-BDE3-13A8A417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D06C4-FC8E-4C26-88CF-5031D1E4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7E794-8AB5-43DF-A5A4-5DD65CD8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96F03-9118-4C3E-A777-121A1564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AE1A8-3C85-4730-B61D-3B6556DE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BF208-E6AE-4644-BD01-5179C0F1D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BA43F-A864-4D62-9418-120E0AA8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C2822-2DDA-41B8-9329-A440B1E1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6A898-318C-4DF3-8565-5867BB7B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0740-3197-4562-908C-596D512E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E6F26-327A-4B4D-8E71-435F3706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27ED4-1EE4-465A-BE94-E25CBD90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89318-5C55-432A-A3E4-3D0DFE5D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600F9-494C-4D2C-BB95-027921FE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98E59-7A02-49E9-B815-15EC0DA1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2C1A5-546E-452E-ACAE-8F563776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30F15-9019-45D5-9410-0A591A24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55E5F-5E42-45B3-934A-697BF784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52357-753B-4EAD-934C-9FFBA3989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08F6-8C47-46BF-A54A-02DCF04D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49B6-9D9B-4429-8AC6-2B0CEA55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A96A-3DF0-47E8-A0AB-1B2D950B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DD25-B5A9-42DC-B971-D6054BBC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0CC4-57AC-44EF-8E88-9D76537C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A004-0256-447F-B334-B9B6064616B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FC17-7889-46C9-8F90-AFCCCCA7B19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36E2-BA67-42FE-A142-887C3B35459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A195-7056-4A81-8200-F948DBA7F33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" Target="slide5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530280" y="-60480"/>
            <a:ext cx="8412120" cy="3267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840"/>
            <a:ext cx="7854840" cy="256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life cycle of a reptile is similar to the life cycle of a mammal, which is similar to a bird, which is similar to  an amphibian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C:\Users\Reagan\AppData\Local\Microsoft\Windows\Temporary Internet Files\Content.IE5\NB2T8R5P\MC900022277[1].wmf"/>
          <p:cNvPicPr/>
          <p:nvPr/>
        </p:nvPicPr>
        <p:blipFill>
          <a:blip r:embed="rId3"/>
          <a:stretch/>
        </p:blipFill>
        <p:spPr>
          <a:xfrm rot="16200000">
            <a:off x="7086600" y="304560"/>
            <a:ext cx="1550880" cy="1839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C:\Users\Reagan\AppData\Local\Microsoft\Windows\Temporary Internet Files\Content.IE5\M60LKLQR\MC900139511[1].wmf"/>
          <p:cNvPicPr/>
          <p:nvPr/>
        </p:nvPicPr>
        <p:blipFill>
          <a:blip r:embed="rId4"/>
          <a:stretch/>
        </p:blipFill>
        <p:spPr>
          <a:xfrm>
            <a:off x="5491080" y="3873600"/>
            <a:ext cx="365292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305 0.55486 L -0.54305 0.55486 E">
                                      <p:cBhvr>
                                        <p:cTn id="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fe Cyc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mphibians have similar life cycles to other vertebra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True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or </a:t>
            </a:r>
            <a:r>
              <a:rPr b="0" lang="en-US" sz="2100" spc="-1" strike="noStrike" u="sng">
                <a:solidFill>
                  <a:srgbClr val="e2d700"/>
                </a:solidFill>
                <a:uFillTx/>
                <a:latin typeface="Constantia"/>
                <a:hlinkClick r:id="rId3" action="ppaction://hlinksldjump"/>
              </a:rPr>
              <a:t>Fals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mphibians go through a large change called a metamorphosis. 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4" action="ppaction://hlinksldjump"/>
              </a:rPr>
              <a:t>True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5" action="ppaction://hlinksldjump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6" action="ppaction://hlinksldjump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 other class of vertebrates changes so much during their lifetime. 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7" action="ppaction://hlinksldjump"/>
              </a:rPr>
              <a:t>Tru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8" action="ppaction://hlinksldjump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mphibians use lungs to breathe before metamorphosi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rue or Fals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5791320" y="58672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nd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"/>
          <p:cNvSpPr/>
          <p:nvPr/>
        </p:nvSpPr>
        <p:spPr>
          <a:xfrm>
            <a:off x="1219320" y="13716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at’s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1371600" y="259092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Great Job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C:\Users\Reagan\AppData\Local\Microsoft\Windows\Temporary Internet Files\Content.IE5\QXH1NALW\MC900445254[1].wmf"/>
          <p:cNvPicPr/>
          <p:nvPr/>
        </p:nvPicPr>
        <p:blipFill>
          <a:blip r:embed="rId2"/>
          <a:stretch/>
        </p:blipFill>
        <p:spPr>
          <a:xfrm>
            <a:off x="7620120" y="380880"/>
            <a:ext cx="1135080" cy="1737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C:\Users\Reagan\AppData\Local\Microsoft\Windows\Temporary Internet Files\Content.IE5\QXH1NALW\MC900445254[1].wmf"/>
          <p:cNvPicPr/>
          <p:nvPr/>
        </p:nvPicPr>
        <p:blipFill>
          <a:blip r:embed="rId3"/>
          <a:stretch/>
        </p:blipFill>
        <p:spPr>
          <a:xfrm>
            <a:off x="304920" y="762120"/>
            <a:ext cx="1135080" cy="1736640"/>
          </a:xfrm>
          <a:prstGeom prst="rect">
            <a:avLst/>
          </a:prstGeom>
          <a:ln w="0">
            <a:noFill/>
          </a:ln>
        </p:spPr>
      </p:pic>
      <p:sp>
        <p:nvSpPr>
          <p:cNvPr id="235" name="TextBox 7"/>
          <p:cNvSpPr/>
          <p:nvPr/>
        </p:nvSpPr>
        <p:spPr>
          <a:xfrm>
            <a:off x="685800" y="57150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ext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1981080" y="137160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C:\Users\Reagan\AppData\Local\Microsoft\Windows\Temporary Internet Files\Content.IE5\DLS9GV4X\MC900434681[1].wmf"/>
          <p:cNvPicPr/>
          <p:nvPr/>
        </p:nvPicPr>
        <p:blipFill>
          <a:blip r:embed="rId2"/>
          <a:stretch/>
        </p:blipFill>
        <p:spPr>
          <a:xfrm>
            <a:off x="3124080" y="2455920"/>
            <a:ext cx="2895840" cy="2725560"/>
          </a:xfrm>
          <a:prstGeom prst="rect">
            <a:avLst/>
          </a:prstGeom>
          <a:ln w="0">
            <a:noFill/>
          </a:ln>
        </p:spPr>
      </p:pic>
      <p:sp>
        <p:nvSpPr>
          <p:cNvPr id="238" name="TextBox 3"/>
          <p:cNvSpPr/>
          <p:nvPr/>
        </p:nvSpPr>
        <p:spPr>
          <a:xfrm>
            <a:off x="685800" y="57150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ext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How are the life cycle of the reptile and the mammal similar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A.  </a:t>
            </a:r>
            <a:r>
              <a:rPr b="0" lang="en-US" sz="44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They both look like their parents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B.  </a:t>
            </a:r>
            <a:r>
              <a:rPr b="0" lang="en-US" sz="4400" spc="-1" strike="noStrike" u="sng">
                <a:solidFill>
                  <a:srgbClr val="e2d700"/>
                </a:solidFill>
                <a:uFillTx/>
                <a:latin typeface="Constantia"/>
                <a:hlinkClick r:id="rId3" action="ppaction://hlinksldjump"/>
              </a:rPr>
              <a:t>They both lay egg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onstantia"/>
              </a:rPr>
              <a:t>C.  </a:t>
            </a:r>
            <a:r>
              <a:rPr b="0" lang="en-US" sz="4400" spc="-1" strike="noStrike" u="sng">
                <a:solidFill>
                  <a:srgbClr val="e2d700"/>
                </a:solidFill>
                <a:uFillTx/>
                <a:latin typeface="Constantia"/>
                <a:hlinkClick r:id="rId4" action="ppaction://hlinksldjump"/>
              </a:rPr>
              <a:t>They are all ready to live on their own at birth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at’s correc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Great Job!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2" descr="C:\Users\Reagan\AppData\Local\Microsoft\Windows\Temporary Internet Files\Content.IE5\QXH1NALW\MC900445254[1].wmf"/>
          <p:cNvPicPr/>
          <p:nvPr/>
        </p:nvPicPr>
        <p:blipFill>
          <a:blip r:embed="rId2"/>
          <a:stretch/>
        </p:blipFill>
        <p:spPr>
          <a:xfrm>
            <a:off x="7620120" y="380880"/>
            <a:ext cx="1135080" cy="1737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C:\Users\Reagan\AppData\Local\Microsoft\Windows\Temporary Internet Files\Content.IE5\QXH1NALW\MC900445254[1].wmf"/>
          <p:cNvPicPr/>
          <p:nvPr/>
        </p:nvPicPr>
        <p:blipFill>
          <a:blip r:embed="rId3"/>
          <a:stretch/>
        </p:blipFill>
        <p:spPr>
          <a:xfrm>
            <a:off x="457200" y="457200"/>
            <a:ext cx="1135080" cy="173664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>
            <a:hlinkClick r:id="rId4" action="ppaction://hlinksldjump"/>
          </p:cNvPr>
          <p:cNvSpPr/>
          <p:nvPr/>
        </p:nvSpPr>
        <p:spPr>
          <a:xfrm>
            <a:off x="609480" y="5715000"/>
            <a:ext cx="3733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5" action="ppaction://hlinksldjump"/>
              </a:rPr>
              <a:t>Next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ry Aga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C:\Users\Reagan\AppData\Local\Microsoft\Windows\Temporary Internet Files\Content.IE5\DLS9GV4X\MC900434681[1].wmf"/>
          <p:cNvPicPr/>
          <p:nvPr/>
        </p:nvPicPr>
        <p:blipFill>
          <a:blip r:embed="rId2"/>
          <a:stretch/>
        </p:blipFill>
        <p:spPr>
          <a:xfrm>
            <a:off x="3124080" y="2455920"/>
            <a:ext cx="2895840" cy="2725560"/>
          </a:xfrm>
          <a:prstGeom prst="rect">
            <a:avLst/>
          </a:prstGeom>
          <a:ln w="0">
            <a:noFill/>
          </a:ln>
        </p:spPr>
      </p:pic>
      <p:sp>
        <p:nvSpPr>
          <p:cNvPr id="209" name="TextBox 6">
            <a:hlinkClick r:id="rId3" action="ppaction://hlinksldjump"/>
          </p:cNvPr>
          <p:cNvSpPr/>
          <p:nvPr/>
        </p:nvSpPr>
        <p:spPr>
          <a:xfrm>
            <a:off x="685800" y="5715000"/>
            <a:ext cx="3200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4" action="ppaction://hlinksldjump"/>
              </a:rPr>
              <a:t>Next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fe Cyc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young need to be fed by their par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Reptile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 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3" action="ppaction://hlinksldjump"/>
              </a:rPr>
              <a:t>Bi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ctr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y are born ready to find their own foo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4" action="ppaction://hlinksldjump"/>
              </a:rPr>
              <a:t>Reptile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 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5" action="ppaction://hlinksldjump"/>
              </a:rPr>
              <a:t>Bi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at’s Correc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Great Job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2" descr="C:\Users\Reagan\AppData\Local\Microsoft\Windows\Temporary Internet Files\Content.IE5\QXH1NALW\MC900445254[1].wmf"/>
          <p:cNvPicPr/>
          <p:nvPr/>
        </p:nvPicPr>
        <p:blipFill>
          <a:blip r:embed="rId2"/>
          <a:stretch/>
        </p:blipFill>
        <p:spPr>
          <a:xfrm>
            <a:off x="457200" y="457200"/>
            <a:ext cx="1135080" cy="1736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C:\Users\Reagan\AppData\Local\Microsoft\Windows\Temporary Internet Files\Content.IE5\QXH1NALW\MC900445254[1].wmf"/>
          <p:cNvPicPr/>
          <p:nvPr/>
        </p:nvPicPr>
        <p:blipFill>
          <a:blip r:embed="rId3"/>
          <a:stretch/>
        </p:blipFill>
        <p:spPr>
          <a:xfrm>
            <a:off x="7620120" y="533520"/>
            <a:ext cx="1135080" cy="17366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1066680" y="52578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Arial"/>
                <a:hlinkClick r:id="rId4" action="ppaction://hlinksldjump"/>
              </a:rPr>
              <a:t>Next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onstantia"/>
              </a:rPr>
              <a:t>Try Again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Picture 2" descr="C:\Users\Reagan\AppData\Local\Microsoft\Windows\Temporary Internet Files\Content.IE5\DLS9GV4X\MC900434681[1].wmf"/>
          <p:cNvPicPr/>
          <p:nvPr/>
        </p:nvPicPr>
        <p:blipFill>
          <a:blip r:embed="rId2"/>
          <a:stretch/>
        </p:blipFill>
        <p:spPr>
          <a:xfrm>
            <a:off x="3048120" y="2503440"/>
            <a:ext cx="3124080" cy="3175200"/>
          </a:xfrm>
          <a:prstGeom prst="rect">
            <a:avLst/>
          </a:prstGeom>
          <a:ln w="0">
            <a:noFill/>
          </a:ln>
        </p:spPr>
      </p:pic>
      <p:sp>
        <p:nvSpPr>
          <p:cNvPr id="219" name="TextBox 4">
            <a:hlinkClick r:id="rId3" action="ppaction://hlinksldjump"/>
          </p:cNvPr>
          <p:cNvSpPr/>
          <p:nvPr/>
        </p:nvSpPr>
        <p:spPr>
          <a:xfrm>
            <a:off x="762120" y="57913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Arial"/>
                <a:hlinkClick r:id="rId4" action="ppaction://hlinksldjump"/>
              </a:rPr>
              <a:t>Next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at’s Correc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Content Placeholder 2" descr=""/>
          <p:cNvPicPr/>
          <p:nvPr/>
        </p:nvPicPr>
        <p:blipFill>
          <a:blip r:embed="rId2"/>
          <a:stretch/>
        </p:blipFill>
        <p:spPr>
          <a:xfrm>
            <a:off x="450720" y="1925640"/>
            <a:ext cx="8242560" cy="4408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C:\Users\Reagan\AppData\Local\Microsoft\Windows\Temporary Internet Files\Content.IE5\QXH1NALW\MC900445254[1].wmf"/>
          <p:cNvPicPr/>
          <p:nvPr/>
        </p:nvPicPr>
        <p:blipFill>
          <a:blip r:embed="rId3"/>
          <a:stretch/>
        </p:blipFill>
        <p:spPr>
          <a:xfrm>
            <a:off x="457200" y="457200"/>
            <a:ext cx="1135080" cy="1736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C:\Users\Reagan\AppData\Local\Microsoft\Windows\Temporary Internet Files\Content.IE5\QXH1NALW\MC900445254[1].wmf"/>
          <p:cNvPicPr/>
          <p:nvPr/>
        </p:nvPicPr>
        <p:blipFill>
          <a:blip r:embed="rId4"/>
          <a:stretch/>
        </p:blipFill>
        <p:spPr>
          <a:xfrm>
            <a:off x="7848720" y="685800"/>
            <a:ext cx="1135080" cy="17366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6"/>
          <p:cNvSpPr/>
          <p:nvPr/>
        </p:nvSpPr>
        <p:spPr>
          <a:xfrm>
            <a:off x="990720" y="54100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Arial"/>
                <a:hlinkClick r:id="rId5" action="ppaction://hlinksldjump"/>
              </a:rPr>
              <a:t>Next Ques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onstantia"/>
              </a:rPr>
              <a:t>Try Again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6" name="Picture 2" descr="C:\Users\Reagan\AppData\Local\Microsoft\Windows\Temporary Internet Files\Content.IE5\DLS9GV4X\MC900434681[1].wmf"/>
          <p:cNvPicPr/>
          <p:nvPr/>
        </p:nvPicPr>
        <p:blipFill>
          <a:blip r:embed="rId2"/>
          <a:stretch/>
        </p:blipFill>
        <p:spPr>
          <a:xfrm>
            <a:off x="3124080" y="2362320"/>
            <a:ext cx="3090960" cy="31417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5"/>
          <p:cNvSpPr/>
          <p:nvPr/>
        </p:nvSpPr>
        <p:spPr>
          <a:xfrm>
            <a:off x="304920" y="609588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Arial"/>
                <a:hlinkClick r:id="rId3" action="ppaction://hlinksldjump"/>
              </a:rPr>
              <a:t>Next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7:43:45Z</dcterms:created>
  <dc:creator>Reagan</dc:creator>
  <dc:description/>
  <dc:language>en-US</dc:language>
  <cp:lastModifiedBy>tsharkey</cp:lastModifiedBy>
  <dcterms:modified xsi:type="dcterms:W3CDTF">2010-09-23T11:56:41Z</dcterms:modified>
  <cp:revision>37</cp:revision>
  <dc:subject/>
  <dc:title>Life Cycle of Reptiles</dc:title>
</cp:coreProperties>
</file>