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8DE-9721-4A42-B21C-ABA24095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6DE-F1E3-48FB-B62B-D2C94CF3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061-82DC-447A-B0FC-32444723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D80-C0B1-4A2A-A747-437C3A58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173C-1D72-4E48-9B8E-D459D280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19A8-7E38-4936-9610-F31E8D79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7C8-E51A-4242-B6CE-9281C4E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949C-057B-44AD-AB6E-92EE040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0BE-9396-4D0E-BD70-B55AA21E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239-471D-49A8-8027-85781A2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048-4E99-493E-936C-C5ABF28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F28-06E6-4F35-9CA3-734307F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90B4-CB70-4A68-BA66-DA23A75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19AB-3EF0-4CC7-B8D3-2937A1A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BF51-66A5-4E6E-B966-8A8D250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5990-CC63-4C8C-AEAD-72CDBE72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F7A-2A67-4EE7-94F8-3AAED9E6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0528-B0DC-409F-835F-AAE24434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5B1F-D268-456A-AE7A-89CA1CB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D386-1764-4A83-B897-0A7FADF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7CA0-5D6E-434E-83C1-61C9D59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F7D3-8078-459F-A1D3-52F095C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A0A-A830-4CFB-9CDA-77CB9DDC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F0F8-DE31-404E-BCC4-60866E14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94CF-93B3-4CCB-82BA-65F4C829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1870-B1E1-46F9-827E-854A34F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9325-C73D-4C87-AEC2-07A79E0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F995-39C4-45FB-B936-D911700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D8DA-CF0A-43F2-B17C-314CEE2E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718C-FABC-4A11-8032-DB25FA7A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F534-8CA7-442F-A08B-E20B4FAD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35D3-6D82-4BBE-A6B9-2F6437B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D034-55DF-4B02-817C-37C3DDC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256-485C-4D31-9FDE-A1DE454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D4CF-A0D4-478D-94EF-B1E90711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AA04-A4D5-4B53-8482-B104B4E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9EC8-8BEA-4FD6-9821-CD7895FF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3D16-C5EC-44F3-A920-1613B0E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22C4-08ED-4C84-9675-FD193CD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AAAD-0E03-470A-8189-4B06F89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A2CE-8C69-425A-9B4C-2E1B5C6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E0E4-9636-44BB-BF61-C05F9104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A836-72D5-4801-942D-C30012DB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D57-401C-49C1-8EBD-5C8D34EF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17B-A9F5-4F7E-B4A2-A806F2D8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22B-8449-4761-81E9-A1360B9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86E-EF3B-4D55-AF01-6E55D4C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527-89A5-4BD7-B324-E22479C1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5CDF-C3D5-44C5-9E65-598497621D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D21-0F7F-4486-A972-A1DD99F4B1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1EA-CDF4-4314-8959-58942A0295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189-15B9-4727-874C-75E4D917B2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-60480"/>
            <a:ext cx="8412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56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fe cycle of a reptile is similar to the life cycle of a mammal, which is similar to a bird, which is similar to  an amphibia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Reagan\AppData\Local\Microsoft\Windows\Temporary Internet Files\Content.IE5\NB2T8R5P\MC900022277[1].wmf"/>
          <p:cNvPicPr/>
          <p:nvPr/>
        </p:nvPicPr>
        <p:blipFill>
          <a:blip r:embed="rId3"/>
          <a:stretch/>
        </p:blipFill>
        <p:spPr>
          <a:xfrm rot="16200000">
            <a:off x="7086600" y="304560"/>
            <a:ext cx="1550880" cy="183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Reagan\AppData\Local\Microsoft\Windows\Temporary Internet Files\Content.IE5\M60LKLQR\MC900139511[1].wmf"/>
          <p:cNvPicPr/>
          <p:nvPr/>
        </p:nvPicPr>
        <p:blipFill>
          <a:blip r:embed="rId4"/>
          <a:stretch/>
        </p:blipFill>
        <p:spPr>
          <a:xfrm>
            <a:off x="5491080" y="3873600"/>
            <a:ext cx="36529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05 0.55486 L -0.54305 0.55486 E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have similar life cycles to other vertebr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ru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1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go through a large change called a metamorphosis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rue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other class of vertebrates changes so much during their lifetime.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phibians use lungs to breathe before 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ue or 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913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21932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’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371600" y="2590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304920" y="7621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1080" y="13716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8580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are the life cycle of the reptile and the mammal simil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They both look like their paren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They both lay egg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C.  </a:t>
            </a:r>
            <a:r>
              <a:rPr b="0" lang="en-US" sz="44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They are all ready to live on their own at bir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7620120" y="380880"/>
            <a:ext cx="1135080" cy="173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>
            <a:hlinkClick r:id="rId4" action="ppaction://hlinksldjump"/>
          </p:cNvPr>
          <p:cNvSpPr/>
          <p:nvPr/>
        </p:nvSpPr>
        <p:spPr>
          <a:xfrm>
            <a:off x="609480" y="5715000"/>
            <a:ext cx="373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y Aga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455920"/>
            <a:ext cx="2895840" cy="2725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>
            <a:hlinkClick r:id="rId3" action="ppaction://hlinksldjump"/>
          </p:cNvPr>
          <p:cNvSpPr/>
          <p:nvPr/>
        </p:nvSpPr>
        <p:spPr>
          <a:xfrm>
            <a:off x="685800" y="5715000"/>
            <a:ext cx="320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Cyc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young need to be fed by their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re born ready to find their own f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epti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Bi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Reagan\AppData\Local\Microsoft\Windows\Temporary Internet Files\Content.IE5\QXH1NALW\MC900445254[1].wmf"/>
          <p:cNvPicPr/>
          <p:nvPr/>
        </p:nvPicPr>
        <p:blipFill>
          <a:blip r:embed="rId2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7620120" y="53352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06668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048120" y="2503440"/>
            <a:ext cx="3124080" cy="3175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>
            <a:hlinkClick r:id="rId3" action="ppaction://hlinksldjump"/>
          </p:cNvPr>
          <p:cNvSpPr/>
          <p:nvPr/>
        </p:nvSpPr>
        <p:spPr>
          <a:xfrm>
            <a:off x="7621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t’s Corr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2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Reagan\AppData\Local\Microsoft\Windows\Temporary Internet Files\Content.IE5\QXH1NALW\MC900445254[1].wmf"/>
          <p:cNvPicPr/>
          <p:nvPr/>
        </p:nvPicPr>
        <p:blipFill>
          <a:blip r:embed="rId3"/>
          <a:stretch/>
        </p:blipFill>
        <p:spPr>
          <a:xfrm>
            <a:off x="457200" y="457200"/>
            <a:ext cx="1135080" cy="173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Reagan\AppData\Local\Microsoft\Windows\Temporary Internet Files\Content.IE5\QXH1NALW\MC900445254[1].wmf"/>
          <p:cNvPicPr/>
          <p:nvPr/>
        </p:nvPicPr>
        <p:blipFill>
          <a:blip r:embed="rId4"/>
          <a:stretch/>
        </p:blipFill>
        <p:spPr>
          <a:xfrm>
            <a:off x="7848720" y="685800"/>
            <a:ext cx="1135080" cy="1736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990720" y="5410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5" action="ppaction://hlinksldjump"/>
              </a:rPr>
              <a:t>Next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ry Again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Reagan\AppData\Local\Microsoft\Windows\Temporary Internet Files\Content.IE5\DLS9GV4X\MC900434681[1].wmf"/>
          <p:cNvPicPr/>
          <p:nvPr/>
        </p:nvPicPr>
        <p:blipFill>
          <a:blip r:embed="rId2"/>
          <a:stretch/>
        </p:blipFill>
        <p:spPr>
          <a:xfrm>
            <a:off x="3124080" y="2362320"/>
            <a:ext cx="3090960" cy="3141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3049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43:45Z</dcterms:created>
  <dc:creator>Reagan</dc:creator>
  <dc:description/>
  <dc:language>en-US</dc:language>
  <cp:lastModifiedBy>tsharkey</cp:lastModifiedBy>
  <dcterms:modified xsi:type="dcterms:W3CDTF">2010-09-23T11:56:41Z</dcterms:modified>
  <cp:revision>37</cp:revision>
  <dc:subject/>
  <dc:title>Life Cycle of Reptiles</dc:title>
</cp:coreProperties>
</file>