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F49-5AD3-4138-AF09-73592462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B5F-093F-4831-93A4-DEC4C02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57B-CE2F-4377-8DC2-A46AE228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B74-B44A-42CD-9D97-35F3CBB5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011C-00AC-4B04-9CA7-C583D0C7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CC23-AC24-402A-BA98-DF47A595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8AF3-7D14-4830-B815-7163EE6A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FC6F-5544-4C97-B759-85682CCB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03E-48AC-408D-A6A4-A4E7A604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881B-3A90-42B8-940F-C91B5D98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C7A9-C498-477F-81EC-97C8E346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DB9-2A4D-4438-9145-854FCB7B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7FB3-142D-4CE7-A1BB-AFDF016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4FAD-9838-426F-A88C-A142082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359-E995-4E12-8C04-DB3319A3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3F6-5C6A-43E3-BEE6-994A1975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8AC2-85C9-44C4-9A20-AF77F94A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8B2E-2E31-4315-A5BB-2FF73371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CAB5-DA23-4690-B100-2C1701C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5824-2AC7-4C18-A04B-B770DE18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A580-83DB-4E4B-8715-C368B848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9BBC-610F-4FC7-942D-7802CFF7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B10-6C82-4406-BD7A-BDB412A7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6511-EF01-4DB1-99D7-9F6CB32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66FD-3B8E-4743-9ACD-C7FBB29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1F0D-E591-4861-A94C-F55A4555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A5B2-912C-4E9D-8EBA-80666520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1068-AE77-4D51-8C68-03819639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2197-4B4B-4F07-9CEE-5C5AC074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6C43-99C9-4A29-B415-929A7754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5F3B-EE45-48CF-BC6A-35AFE279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0570-04FE-4BFA-80A9-3693093B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473B-8CA6-4D90-9187-3B7DA59D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A2F-D1E2-47EF-8070-95A9ECA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1362-0B1D-44F9-B30C-5E44195F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F2A56-CF93-4B5E-AE4E-D3A78F19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1A03-6231-46E9-903A-04CF0635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5534-0891-47F9-8DD8-1A1E1F0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2594-7C94-4619-ADBB-E71A209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1E1C-2107-44AE-B1FA-8807999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2989-1B29-460C-AE91-1A8DBCFF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7EA90-E6FA-40EC-9B22-ACC3B96E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4578-2913-4313-9054-34868BAC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3A1-E2AD-457E-A9B2-617D6B9F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90A-2338-4048-A3B3-708A9C5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3A1-6624-434A-BD8E-0FDF874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AF1-F9F4-41C8-AE57-BEF5767C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B90-59C2-42E0-A2E7-1D4A3C31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51FC-DDB1-4A9E-9F68-3A88ED75A2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C756-040E-42F1-87F4-1D433883D1E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EFAB-EC97-499F-9739-43F61D9392F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042A-4867-41C9-8AAE-97672CB5585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-60480"/>
            <a:ext cx="841212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56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ife cycle of a reptile is similar to the life cycle of a mammal, which is similar to a bird, which is similar to  an amphibia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Reagan\AppData\Local\Microsoft\Windows\Temporary Internet Files\Content.IE5\NB2T8R5P\MC900022277[1].wmf"/>
          <p:cNvPicPr/>
          <p:nvPr/>
        </p:nvPicPr>
        <p:blipFill>
          <a:blip r:embed="rId3"/>
          <a:stretch/>
        </p:blipFill>
        <p:spPr>
          <a:xfrm rot="16200000">
            <a:off x="7086600" y="304560"/>
            <a:ext cx="1550880" cy="183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Reagan\AppData\Local\Microsoft\Windows\Temporary Internet Files\Content.IE5\M60LKLQR\MC900139511[1].wmf"/>
          <p:cNvPicPr/>
          <p:nvPr/>
        </p:nvPicPr>
        <p:blipFill>
          <a:blip r:embed="rId4"/>
          <a:stretch/>
        </p:blipFill>
        <p:spPr>
          <a:xfrm>
            <a:off x="5491080" y="3873600"/>
            <a:ext cx="36529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05 0.55486 L -0.54305 0.55486 E"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have similar life cycles to other vertebr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ru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go through a large change called a metamorphosis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rue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other class of vertebrates changes so much during their lifetime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use lungs to breathe before 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rue or 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79132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121932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’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371600" y="2590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304920" y="7621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1080" y="13716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are the life cycle of the reptile and the mammal similar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hey both look like their parent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They both lay egg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C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hey are all ready to live on their own at birth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>
            <a:hlinkClick r:id="rId4" action="ppaction://hlinksldjump"/>
          </p:cNvPr>
          <p:cNvSpPr/>
          <p:nvPr/>
        </p:nvSpPr>
        <p:spPr>
          <a:xfrm>
            <a:off x="609480" y="5715000"/>
            <a:ext cx="373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y Aga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>
            <a:hlinkClick r:id="rId3" action="ppaction://hlinksldjump"/>
          </p:cNvPr>
          <p:cNvSpPr/>
          <p:nvPr/>
        </p:nvSpPr>
        <p:spPr>
          <a:xfrm>
            <a:off x="685800" y="5715000"/>
            <a:ext cx="320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young need to be fed by their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re born ready to find their own f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7620120" y="5335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06668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048120" y="2503440"/>
            <a:ext cx="3124080" cy="3175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>
            <a:hlinkClick r:id="rId3" action="ppaction://hlinksldjump"/>
          </p:cNvPr>
          <p:cNvSpPr/>
          <p:nvPr/>
        </p:nvSpPr>
        <p:spPr>
          <a:xfrm>
            <a:off x="762120" y="5791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Content Placeholder 2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Reagan\AppData\Local\Microsoft\Windows\Temporary Internet Files\Content.IE5\QXH1NALW\MC900445254[1].wmf"/>
          <p:cNvPicPr/>
          <p:nvPr/>
        </p:nvPicPr>
        <p:blipFill>
          <a:blip r:embed="rId4"/>
          <a:stretch/>
        </p:blipFill>
        <p:spPr>
          <a:xfrm>
            <a:off x="7848720" y="6858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990720" y="5410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5" action="ppaction://hlinksldjump"/>
              </a:rPr>
              <a:t>Next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362320"/>
            <a:ext cx="3090960" cy="3141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304920" y="6095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43:45Z</dcterms:created>
  <dc:creator>Reagan</dc:creator>
  <dc:description/>
  <dc:language>en-US</dc:language>
  <cp:lastModifiedBy>tsharkey</cp:lastModifiedBy>
  <dcterms:modified xsi:type="dcterms:W3CDTF">2010-09-23T11:56:41Z</dcterms:modified>
  <cp:revision>37</cp:revision>
  <dc:subject/>
  <dc:title>Life Cycle of Reptiles</dc:title>
</cp:coreProperties>
</file>