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C6D-4A4A-4831-844E-E00AB89E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FE6-9874-4492-ABF2-CC57E266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280-04E8-4E60-9FAD-4C9C4F86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384-E1AD-481D-94D4-FC17471C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AB1B-755C-4C38-B7EE-47D1EA0A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512-8462-45D4-9F7D-0448B30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992-0FFF-4183-B071-3949B1D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E8D-D271-4282-A9A1-6134147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3537-EFB0-4E1C-9751-D0901EA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39C4-B3A6-4D2C-8931-5F0C8949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9A9-1728-45B4-A036-7F2E91C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BCA-DF29-4CD2-81AC-FDE53D85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1732-9718-4777-AF4E-BE497E0A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3FB-B423-45FA-8925-60BD1CD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F9D-0D4B-48C4-8ABA-D1E35C0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6B09-68CC-4AD7-BD18-9DB59CF0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B023-5975-4DDD-BD3D-BA6FAB61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B046-9F7B-4154-BF9C-63F122A2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F207-8F9B-4573-B300-435CC64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BEBE-14BB-401F-BDA9-A4C3FDA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8C0D-D869-4422-8CC2-7D195BC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E9A4-31C9-419C-B113-83105C6E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98D-4340-4F6A-8A05-7CBB5066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1509-EFC8-4CF2-A39C-D72508D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9ACA-C000-42AD-A392-E63E34FE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CC2F-9147-4F39-ACC1-ED6B0DB9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C509-BB6C-4BF2-B878-941BFC3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3E61-20BF-4AA9-AFDF-5088AC8B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1325-A589-485B-AB87-1FCE3525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2988-0230-447A-BA5A-DE195136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034F-CAEA-4448-BCF7-DC1C2AEC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ED29-0029-4592-92E7-B148A177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3A7E-9D01-4C41-B602-FBAC0B23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99A-84B2-4955-83FA-561A2D17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F3B5E-B260-485B-864F-530E41E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49DA-58CC-43FF-9670-26A09E1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247F-49B6-4F26-B6D8-48A7E9E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8370-628F-4ED9-A374-786E814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5D27-121D-4695-B0D2-D3F543F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C99B-C5F7-4FB5-97BF-3EE7EE6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A8AE-7894-4C1B-9A3B-88C1B7EC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5944-DFE4-4B55-B294-BEE01F8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C34E-CC17-4B4D-B134-4CE7D60F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442-E40A-4AC0-9C9E-C27DCBC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192-8A9A-4B25-BE04-9FB9B3D4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CA7-EE61-4EE4-ACE6-AA3B356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10C-B501-4294-A934-1C4A97D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E9F-89B0-488E-A813-31CC114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90F-DF78-4F18-9AA9-5838AC8BE4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2D5-80CE-436E-B070-AA94C2195EF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963-B469-476C-8952-7B66AA0F9B1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258-8924-4D44-891E-0CC6915753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-60480"/>
            <a:ext cx="8412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56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fe cycle of a reptile is similar to the life cycle of a mammal, which is similar to a bird, which is similar to  an amphibia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Reagan\AppData\Local\Microsoft\Windows\Temporary Internet Files\Content.IE5\NB2T8R5P\MC900022277[1].wmf"/>
          <p:cNvPicPr/>
          <p:nvPr/>
        </p:nvPicPr>
        <p:blipFill>
          <a:blip r:embed="rId3"/>
          <a:stretch/>
        </p:blipFill>
        <p:spPr>
          <a:xfrm rot="16200000">
            <a:off x="7086600" y="304560"/>
            <a:ext cx="1550880" cy="183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Reagan\AppData\Local\Microsoft\Windows\Temporary Internet Files\Content.IE5\M60LKLQR\MC900139511[1].wmf"/>
          <p:cNvPicPr/>
          <p:nvPr/>
        </p:nvPicPr>
        <p:blipFill>
          <a:blip r:embed="rId4"/>
          <a:stretch/>
        </p:blipFill>
        <p:spPr>
          <a:xfrm>
            <a:off x="5491080" y="3873600"/>
            <a:ext cx="3652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05 0.55486 L -0.54305 0.55486 E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have similar life cycles to other verteb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ru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go through a large change called a metamorphosis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rue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other class of vertebrates changes so much during their lifetime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use lungs to breathe before 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ue or 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913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21932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’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371600" y="2590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304920" y="7621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1080" y="13716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are the life cycle of the reptile and the mammal simil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hey both look like their paren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They both lay egg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C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hey are all ready to live on their own at bir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>
            <a:hlinkClick r:id="rId4" action="ppaction://hlinksldjump"/>
          </p:cNvPr>
          <p:cNvSpPr/>
          <p:nvPr/>
        </p:nvSpPr>
        <p:spPr>
          <a:xfrm>
            <a:off x="609480" y="5715000"/>
            <a:ext cx="373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y Aga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>
            <a:hlinkClick r:id="rId3" action="ppaction://hlinksldjump"/>
          </p:cNvPr>
          <p:cNvSpPr/>
          <p:nvPr/>
        </p:nvSpPr>
        <p:spPr>
          <a:xfrm>
            <a:off x="685800" y="5715000"/>
            <a:ext cx="320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young need to be fed by their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re born ready to find their own f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7620120" y="5335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06668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048120" y="2503440"/>
            <a:ext cx="3124080" cy="3175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>
            <a:hlinkClick r:id="rId3" action="ppaction://hlinksldjump"/>
          </p:cNvPr>
          <p:cNvSpPr/>
          <p:nvPr/>
        </p:nvSpPr>
        <p:spPr>
          <a:xfrm>
            <a:off x="7621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2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Reagan\AppData\Local\Microsoft\Windows\Temporary Internet Files\Content.IE5\QXH1NALW\MC900445254[1].wmf"/>
          <p:cNvPicPr/>
          <p:nvPr/>
        </p:nvPicPr>
        <p:blipFill>
          <a:blip r:embed="rId4"/>
          <a:stretch/>
        </p:blipFill>
        <p:spPr>
          <a:xfrm>
            <a:off x="7848720" y="6858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990720" y="5410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5" action="ppaction://hlinksldjump"/>
              </a:rPr>
              <a:t>Next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362320"/>
            <a:ext cx="309096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3049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43:45Z</dcterms:created>
  <dc:creator>Reagan</dc:creator>
  <dc:description/>
  <dc:language>en-US</dc:language>
  <cp:lastModifiedBy>tsharkey</cp:lastModifiedBy>
  <dcterms:modified xsi:type="dcterms:W3CDTF">2010-09-23T11:56:41Z</dcterms:modified>
  <cp:revision>37</cp:revision>
  <dc:subject/>
  <dc:title>Life Cycle of Reptiles</dc:title>
</cp:coreProperties>
</file>